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907588" cy="6858000"/>
  <p:notesSz cx="9918700" cy="6757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6720" y="60120"/>
            <a:ext cx="8401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614160"/>
            <a:ext cx="8381880" cy="27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61760" y="3652920"/>
            <a:ext cx="8381880" cy="27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6720" y="60120"/>
            <a:ext cx="8401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614160"/>
            <a:ext cx="4090320" cy="27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56920" y="614160"/>
            <a:ext cx="4090320" cy="27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61760" y="3652920"/>
            <a:ext cx="4090320" cy="27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56920" y="3652920"/>
            <a:ext cx="4090320" cy="27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56720" y="60120"/>
            <a:ext cx="8401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61760" y="614160"/>
            <a:ext cx="2698560" cy="27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95680" y="614160"/>
            <a:ext cx="2698560" cy="27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29600" y="614160"/>
            <a:ext cx="2698560" cy="27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761760" y="3652920"/>
            <a:ext cx="2698560" cy="27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95680" y="3652920"/>
            <a:ext cx="2698560" cy="27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29600" y="3652920"/>
            <a:ext cx="2698560" cy="27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6720" y="60120"/>
            <a:ext cx="8401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761760" y="614160"/>
            <a:ext cx="8381880" cy="58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6720" y="60120"/>
            <a:ext cx="8401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614160"/>
            <a:ext cx="8381880" cy="58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6720" y="60120"/>
            <a:ext cx="8401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1760" y="614160"/>
            <a:ext cx="4090320" cy="58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56920" y="614160"/>
            <a:ext cx="4090320" cy="58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6720" y="60120"/>
            <a:ext cx="8401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756720" y="78840"/>
            <a:ext cx="8401320" cy="22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6720" y="60120"/>
            <a:ext cx="8401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1760" y="614160"/>
            <a:ext cx="4090320" cy="27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56920" y="614160"/>
            <a:ext cx="4090320" cy="58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61760" y="3652920"/>
            <a:ext cx="4090320" cy="27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6720" y="60120"/>
            <a:ext cx="8401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761760" y="614160"/>
            <a:ext cx="8381880" cy="58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6720" y="60120"/>
            <a:ext cx="8401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1760" y="614160"/>
            <a:ext cx="4090320" cy="58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6920" y="614160"/>
            <a:ext cx="4090320" cy="27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56920" y="3652920"/>
            <a:ext cx="4090320" cy="27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6720" y="60120"/>
            <a:ext cx="8401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1760" y="614160"/>
            <a:ext cx="4090320" cy="27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56920" y="614160"/>
            <a:ext cx="4090320" cy="27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61760" y="3652920"/>
            <a:ext cx="8381880" cy="27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6720" y="60120"/>
            <a:ext cx="8401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61760" y="614160"/>
            <a:ext cx="8381880" cy="27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761760" y="3652920"/>
            <a:ext cx="8381880" cy="27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56720" y="60120"/>
            <a:ext cx="8401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1760" y="614160"/>
            <a:ext cx="4090320" cy="27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56920" y="614160"/>
            <a:ext cx="4090320" cy="27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61760" y="3652920"/>
            <a:ext cx="4090320" cy="27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56920" y="3652920"/>
            <a:ext cx="4090320" cy="27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56720" y="60120"/>
            <a:ext cx="8401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1760" y="614160"/>
            <a:ext cx="2698560" cy="27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95680" y="614160"/>
            <a:ext cx="2698560" cy="27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29600" y="614160"/>
            <a:ext cx="2698560" cy="27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761760" y="3652920"/>
            <a:ext cx="2698560" cy="27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95680" y="3652920"/>
            <a:ext cx="2698560" cy="27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29600" y="3652920"/>
            <a:ext cx="2698560" cy="27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6720" y="60120"/>
            <a:ext cx="8401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1760" y="614160"/>
            <a:ext cx="8381880" cy="58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6720" y="60120"/>
            <a:ext cx="8401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614160"/>
            <a:ext cx="4090320" cy="58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6920" y="614160"/>
            <a:ext cx="4090320" cy="58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6720" y="60120"/>
            <a:ext cx="8401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756720" y="78840"/>
            <a:ext cx="8401320" cy="22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6720" y="60120"/>
            <a:ext cx="8401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1760" y="614160"/>
            <a:ext cx="4090320" cy="27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56920" y="614160"/>
            <a:ext cx="4090320" cy="58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61760" y="3652920"/>
            <a:ext cx="4090320" cy="27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6720" y="60120"/>
            <a:ext cx="8401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1760" y="614160"/>
            <a:ext cx="4090320" cy="58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56920" y="614160"/>
            <a:ext cx="4090320" cy="27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56920" y="3652920"/>
            <a:ext cx="4090320" cy="27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6720" y="60120"/>
            <a:ext cx="8401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1760" y="614160"/>
            <a:ext cx="4090320" cy="27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56920" y="614160"/>
            <a:ext cx="4090320" cy="27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61760" y="3652920"/>
            <a:ext cx="8381880" cy="27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3240" y="0"/>
            <a:ext cx="99028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61760" y="614160"/>
            <a:ext cx="8381880" cy="58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601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27120" indent="-21888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63800" indent="-21744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63800" indent="-21744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63800" indent="-21744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756720" y="78840"/>
            <a:ext cx="840132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5829480"/>
            <a:ext cx="9906120" cy="10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9104400" y="6284880"/>
            <a:ext cx="801720" cy="5731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7761240" y="6583320"/>
            <a:ext cx="136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00000"/>
                </a:solidFill>
                <a:latin typeface="Arial"/>
              </a:rPr>
              <a:t>PLANETE 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04800" y="6486480"/>
            <a:ext cx="847584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Mot._Labs.Hrzntl_frmt.BoW" descr=""/>
          <p:cNvPicPr/>
          <p:nvPr/>
        </p:nvPicPr>
        <p:blipFill>
          <a:blip r:embed="rId4"/>
          <a:stretch/>
        </p:blipFill>
        <p:spPr>
          <a:xfrm>
            <a:off x="0" y="6464160"/>
            <a:ext cx="2367000" cy="39384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2222640" y="6556320"/>
            <a:ext cx="525132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77840" algn="ctr">
              <a:lnSpc>
                <a:spcPct val="100000"/>
              </a:lnSpc>
              <a:tabLst>
                <a:tab algn="l" pos="0"/>
                <a:tab algn="ctr" pos="4167360"/>
                <a:tab algn="r" pos="7658280"/>
                <a:tab algn="r" pos="8178840"/>
                <a:tab algn="r" pos="879804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MOBIWAN - Thierry Ernst - May 2001 - </a:t>
            </a:r>
            <a:fld id="{F232FF61-CBDF-496B-8DEF-9F24AF3B9EF5}" type="slidenum">
              <a:rPr b="1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768240" y="554040"/>
            <a:ext cx="839628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240" y="0"/>
            <a:ext cx="990288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5829480"/>
            <a:ext cx="9906120" cy="10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6553080"/>
            <a:ext cx="899172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19120" y="6556320"/>
            <a:ext cx="8534520" cy="4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77840">
              <a:lnSpc>
                <a:spcPct val="100000"/>
              </a:lnSpc>
              <a:tabLst>
                <a:tab algn="l" pos="0"/>
                <a:tab algn="ctr" pos="4167360"/>
                <a:tab algn="r" pos="7658280"/>
                <a:tab algn="r" pos="8178840"/>
                <a:tab algn="r" pos="879804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ierry Ernst - May 2001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fld id="{7FBC0E69-7381-433B-9856-880A727D546B}" type="slidenum">
              <a:rPr b="1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600200"/>
            <a:ext cx="8534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Mot._Labs.Hrzntl_frmt.BoW" descr=""/>
          <p:cNvPicPr/>
          <p:nvPr/>
        </p:nvPicPr>
        <p:blipFill>
          <a:blip r:embed="rId3"/>
          <a:stretch/>
        </p:blipFill>
        <p:spPr>
          <a:xfrm>
            <a:off x="2476440" y="223920"/>
            <a:ext cx="5008680" cy="830160"/>
          </a:xfrm>
          <a:prstGeom prst="rect">
            <a:avLst/>
          </a:prstGeom>
          <a:ln w="0">
            <a:noFill/>
          </a:ln>
        </p:spPr>
      </p:pic>
      <p:pic>
        <p:nvPicPr>
          <p:cNvPr id="53" name="logo_inria_ra_370x110" descr=""/>
          <p:cNvPicPr/>
          <p:nvPr/>
        </p:nvPicPr>
        <p:blipFill>
          <a:blip r:embed="rId4"/>
          <a:stretch/>
        </p:blipFill>
        <p:spPr>
          <a:xfrm>
            <a:off x="2840040" y="1285920"/>
            <a:ext cx="3008160" cy="893880"/>
          </a:xfrm>
          <a:prstGeom prst="rect">
            <a:avLst/>
          </a:prstGeom>
          <a:ln w="0">
            <a:noFill/>
          </a:ln>
        </p:spPr>
      </p:pic>
      <p:pic>
        <p:nvPicPr>
          <p:cNvPr id="54" name="planete-logo" descr=""/>
          <p:cNvPicPr/>
          <p:nvPr/>
        </p:nvPicPr>
        <p:blipFill>
          <a:blip r:embed="rId5"/>
          <a:srcRect l="0" t="12046" r="0" b="15731"/>
          <a:stretch/>
        </p:blipFill>
        <p:spPr>
          <a:xfrm>
            <a:off x="5937120" y="1592280"/>
            <a:ext cx="1525680" cy="366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92000" y="2351160"/>
            <a:ext cx="822960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6720" indent="0" algn="ctr">
              <a:spcBef>
                <a:spcPts val="499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93800" indent="79200" algn="ctr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190520" indent="117720" algn="ctr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587600" indent="158760" algn="ctr">
              <a:spcBef>
                <a:spcPts val="326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5" marL="1587600" indent="158760">
              <a:spcBef>
                <a:spcPts val="326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6" marL="1587600" indent="158760">
              <a:spcBef>
                <a:spcPts val="326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84080" y="2453760"/>
            <a:ext cx="838224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MobiWan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NS-2 Simulation Platform 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to study mobility support in IPv6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Wide-Area Networks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501560" y="4390560"/>
            <a:ext cx="69339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hierry Ern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OTOROLA La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nd INRIA Rhône-Al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ttp://www.inrialpes.fr/planete/mobiw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pull dir="r"/>
      </p:transition>
    </mc:Choice>
    <mc:Fallback>
      <p:transition spd="slow">
        <p:pull dir="r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56720" y="78840"/>
            <a:ext cx="840132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Existing NS-2 Presentation: Mobile Nodes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90320" y="693720"/>
            <a:ext cx="7124760" cy="55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less top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MobileNod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reless Nodes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527120" indent="-21888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bi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27120" indent="-21888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 S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963800" indent="-217440">
              <a:spcBef>
                <a:spcPts val="326"/>
              </a:spcBef>
              <a:buClr>
                <a:srgbClr val="000000"/>
              </a:buClr>
              <a:buFont typeface="Helvetica"/>
              <a:buChar char="•"/>
              <a:tabLst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ink Mobile Nodes to wired the wired topolog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4" marL="1963800" indent="-217440">
              <a:spcBef>
                <a:spcPts val="326"/>
              </a:spcBef>
              <a:buClr>
                <a:srgbClr val="000000"/>
              </a:buClr>
              <a:buFont typeface="Helvetica"/>
              <a:buChar char="•"/>
              <a:tabLst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= Mobile Nodes with speed=0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mposed by a set of objects inherited from Class Nod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527120" indent="0">
              <a:spcBef>
                <a:spcPts val="400"/>
              </a:spcBef>
              <a:buNone/>
              <a:tabLst>
                <a:tab algn="l" pos="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 Ad-Hoc routing protoc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27120" indent="0">
              <a:spcBef>
                <a:spcPts val="400"/>
              </a:spcBef>
              <a:buNone/>
              <a:tabLst>
                <a:tab algn="l" pos="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 Link Lay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27120" indent="0">
              <a:spcBef>
                <a:spcPts val="400"/>
              </a:spcBef>
              <a:buNone/>
              <a:tabLst>
                <a:tab algn="l" pos="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27120" indent="0">
              <a:spcBef>
                <a:spcPts val="400"/>
              </a:spcBef>
              <a:buNone/>
              <a:tabLst>
                <a:tab algn="l" pos="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 MA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27120" indent="0">
              <a:spcBef>
                <a:spcPts val="400"/>
              </a:spcBef>
              <a:buNone/>
              <a:tabLst>
                <a:tab algn="l" pos="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 AR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ha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reless broadcast medium (i.e. the air interface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ropagation model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elay = f(distance between sender/receiver + alpha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pull dir="r"/>
      </p:transition>
    </mc:Choice>
    <mc:Fallback>
      <p:transition spd="slow">
        <p:pull dir="r"/>
      </p:transition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56720" y="78840"/>
            <a:ext cx="840132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Existing NS-2 Presentation: Class MobileNode 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9" name="dsdv" descr=""/>
          <p:cNvPicPr/>
          <p:nvPr/>
        </p:nvPicPr>
        <p:blipFill>
          <a:blip r:embed="rId1">
            <a:lum contrast="24000"/>
          </a:blip>
          <a:srcRect l="0" t="0" r="5324" b="0"/>
          <a:stretch/>
        </p:blipFill>
        <p:spPr>
          <a:xfrm>
            <a:off x="1568520" y="685800"/>
            <a:ext cx="6603840" cy="58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pull dir="r"/>
      </p:transition>
    </mc:Choice>
    <mc:Fallback>
      <p:transition spd="slow">
        <p:pull dir="r"/>
      </p:transition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56720" y="78840"/>
            <a:ext cx="840132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Existing NS-2 Presentation: Mobile IPv4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1" name="wireless-mip" descr=""/>
          <p:cNvPicPr/>
          <p:nvPr/>
        </p:nvPicPr>
        <p:blipFill>
          <a:blip r:embed="rId1"/>
          <a:srcRect l="0" t="4943" r="5415" b="1362"/>
          <a:stretch/>
        </p:blipFill>
        <p:spPr>
          <a:xfrm>
            <a:off x="1403280" y="685800"/>
            <a:ext cx="71802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pull dir="r"/>
      </p:transition>
    </mc:Choice>
    <mc:Fallback>
      <p:transition spd="slow">
        <p:pull dir="r"/>
      </p:transition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56720" y="78840"/>
            <a:ext cx="840132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Existing NS-2 Presentation: Local Mobility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90320" y="693720"/>
            <a:ext cx="7124760" cy="55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05640" indent="-30564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 contributed by C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640" indent="-30564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bility within a limited geographical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9880" indent="-25344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graphical area represented by a 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9880" indent="-25344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nel = wireless broadcast medium (i.e. the air interface) in the Gri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9880" indent="-25344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nel has a propagation mod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3760" indent="-20196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elay = f(distance between sender/receiver + alpha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05640" indent="0"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640" indent="-30564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bility Mod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9880" indent="-25344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e Node is moving within the 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9880" indent="-25344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e Node has a speed on moves towards a specified co-ordin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9880" indent="-25344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icit Movemen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3760" indent="-20196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pecifies starting position and future destin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59880" indent="-25344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dom Movemen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3760" indent="-20196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hose randomly new position and spe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pull dir="r"/>
      </p:transition>
    </mc:Choice>
    <mc:Fallback>
      <p:transition spd="slow">
        <p:pull dir="r"/>
      </p:transition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6720" y="78840"/>
            <a:ext cx="840132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Existing NS-2 Presentation: Local Mobility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5" name="site_cover" descr=""/>
          <p:cNvPicPr/>
          <p:nvPr/>
        </p:nvPicPr>
        <p:blipFill>
          <a:blip r:embed="rId1"/>
          <a:stretch/>
        </p:blipFill>
        <p:spPr>
          <a:xfrm>
            <a:off x="495360" y="1295280"/>
            <a:ext cx="8942400" cy="4229280"/>
          </a:xfrm>
          <a:prstGeom prst="rect">
            <a:avLst/>
          </a:prstGeom>
          <a:ln w="0">
            <a:noFill/>
          </a:ln>
        </p:spPr>
      </p:pic>
      <p:cxnSp>
        <p:nvCxnSpPr>
          <p:cNvPr id="126" name=""/>
          <p:cNvCxnSpPr>
            <a:stCxn id="125" idx="1"/>
            <a:endCxn id="125" idx="1"/>
          </p:cNvCxnSpPr>
          <p:nvPr/>
        </p:nvCxnSpPr>
        <p:spPr>
          <a:xfrm>
            <a:off x="495000" y="3409560"/>
            <a:ext cx="10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127" name=""/>
          <p:cNvSpPr/>
          <p:nvPr/>
        </p:nvSpPr>
        <p:spPr>
          <a:xfrm>
            <a:off x="660240" y="1905120"/>
            <a:ext cx="3219480" cy="3504960"/>
          </a:xfrm>
          <a:custGeom>
            <a:avLst/>
            <a:gdLst/>
            <a:ahLst/>
            <a:rect l="l" t="t" r="r" b="b"/>
            <a:pathLst>
              <a:path w="1872" h="2208">
                <a:moveTo>
                  <a:pt x="48" y="624"/>
                </a:moveTo>
                <a:lnTo>
                  <a:pt x="912" y="0"/>
                </a:lnTo>
                <a:lnTo>
                  <a:pt x="1680" y="480"/>
                </a:lnTo>
                <a:lnTo>
                  <a:pt x="1872" y="1200"/>
                </a:lnTo>
                <a:lnTo>
                  <a:pt x="672" y="2208"/>
                </a:lnTo>
                <a:lnTo>
                  <a:pt x="0" y="1440"/>
                </a:lnTo>
                <a:lnTo>
                  <a:pt x="864" y="816"/>
                </a:lnTo>
              </a:path>
            </a:pathLst>
          </a:custGeom>
          <a:noFill/>
          <a:ln w="5724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063880" y="3048120"/>
            <a:ext cx="330120" cy="22860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614520"/>
            <a:ext cx="8381880" cy="58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28680" indent="-3286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bility within a geographical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pull dir="r"/>
      </p:transition>
    </mc:Choice>
    <mc:Fallback>
      <p:transition spd="slow">
        <p:pull dir="r"/>
      </p:transition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56720" y="78840"/>
            <a:ext cx="840132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Existing NS-2 Presentation: Addressing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1760" y="614160"/>
            <a:ext cx="8381880" cy="58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erarchical addres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layer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erarchy decreases routing table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node h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entry per do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entry per cluster in the same do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entry per node in the same clu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8680" indent="0"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0">
              <a:spcBef>
                <a:spcPts val="499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pull dir="r"/>
      </p:transition>
    </mc:Choice>
    <mc:Fallback>
      <p:transition spd="slow">
        <p:pull dir="r"/>
      </p:transition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56720" y="78840"/>
            <a:ext cx="840132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Existing NS-2 Presentation: GT-ITM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61760" y="614160"/>
            <a:ext cx="8381880" cy="58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ologies may be generated using GT-I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ed to model realistic Internet top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es graphs the reflect locality and hierarchy presents in the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the Transit-Stub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is a graph in SGB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bitrary sizes ( from tens to thousands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kind of nod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ransit Nodes ~ backbone nod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tub Node ~ site router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0">
              <a:spcBef>
                <a:spcPts val="425"/>
              </a:spcBef>
              <a:buNone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pull dir="r"/>
      </p:transition>
    </mc:Choice>
    <mc:Fallback>
      <p:transition spd="slow">
        <p:pull dir="r"/>
      </p:transition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56720" y="78840"/>
            <a:ext cx="840132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Existing NS-2 Presentation: GT-ITM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5" name="topology_3" descr=""/>
          <p:cNvPicPr/>
          <p:nvPr/>
        </p:nvPicPr>
        <p:blipFill>
          <a:blip r:embed="rId1"/>
          <a:srcRect l="0" t="5522" r="5567" b="0"/>
          <a:stretch/>
        </p:blipFill>
        <p:spPr>
          <a:xfrm>
            <a:off x="247680" y="685800"/>
            <a:ext cx="9410760" cy="57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pull dir="r"/>
      </p:transition>
    </mc:Choice>
    <mc:Fallback>
      <p:transition spd="slow">
        <p:pull dir="r"/>
      </p:transition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56720" y="78840"/>
            <a:ext cx="840132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Existing NS-2 Presenation: from GT-ITM to NS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61760" y="614160"/>
            <a:ext cx="8381880" cy="58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90440" indent="0">
              <a:spcBef>
                <a:spcPts val="425"/>
              </a:spcBef>
              <a:buNone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lators sgb2n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- sgb2hi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ph in SGB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ach node, a NS OTCL call to create the node, and its addr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ddresses with 1 level of hierarchy for sgb2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ddresses with 3 levels of hierarchy for sgbhier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s between node nu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pull dir="r"/>
      </p:transition>
    </mc:Choice>
    <mc:Fallback>
      <p:transition spd="slow">
        <p:pull dir="r"/>
      </p:transition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56720" y="78840"/>
            <a:ext cx="840132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Existing NS-2 Presentation: GT-ITM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1760" y="614160"/>
            <a:ext cx="8381880" cy="58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meter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of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of transit dom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of transit nodes / transit do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of stub domains / transit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of stub nodes per stub doma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ability for Transit nodes in same domain to be neighb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ability for Stub nodes in same stub to be conn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b domains may be connected (default is 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0">
              <a:spcBef>
                <a:spcPts val="425"/>
              </a:spcBef>
              <a:buNone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pull dir="r"/>
      </p:transition>
    </mc:Choice>
    <mc:Fallback>
      <p:transition spd="slow">
        <p:pull dir="r"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6720" y="78840"/>
            <a:ext cx="840132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Table of contents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90320" y="693720"/>
            <a:ext cx="712476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isting NS-2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sing Pieces in NS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NS-2 Features for wide-area mobility and IPv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pology Translation and Mani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-site Mobil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e IPv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enario Config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pull dir="r"/>
      </p:transition>
    </mc:Choice>
    <mc:Fallback>
      <p:transition spd="slow">
        <p:pull dir="r"/>
      </p:transition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56720" y="78840"/>
            <a:ext cx="840132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Missing Pieces in NS-2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1760" y="614160"/>
            <a:ext cx="8381880" cy="58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y way to configure large top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-area mo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 = limited geographical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ow to expand a geographical area to the size of a WAN 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ow to determine coordinates in a WAN 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e Node cannot moves from one grid to ano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v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bile IPv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IPv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MobileNode class and hierarchical addr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Multicast and Wireless simultaneous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0"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pull dir="r"/>
      </p:transition>
    </mc:Choice>
    <mc:Fallback>
      <p:transition spd="slow">
        <p:pull dir="r"/>
      </p:transition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56720" y="78840"/>
            <a:ext cx="840132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Missing Pieces : Large Topologies Manipulation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1760" y="614160"/>
            <a:ext cx="8381880" cy="58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isting translator from GT-ITM to NS is not suitable to manipulate large top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unction of the node in the topology is lost by the existing sgb2ns transl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0">
              <a:spcBef>
                <a:spcPts val="499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to differentiate nodes according to their function in the topolog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t Nodes are backbone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b Nodes are routers within a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des connecting stubs to a transit nodes are Border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des connecting a wireless nodes to the wired network are Base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0">
              <a:spcBef>
                <a:spcPts val="499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pull dir="r"/>
      </p:transition>
    </mc:Choice>
    <mc:Fallback>
      <p:transition spd="slow">
        <p:pull dir="r"/>
      </p:transition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6720" y="78840"/>
            <a:ext cx="840132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Missing Pieces: Large Topologies Manipulation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45" name="nam" descr=""/>
          <p:cNvPicPr/>
          <p:nvPr/>
        </p:nvPicPr>
        <p:blipFill>
          <a:blip r:embed="rId1"/>
          <a:srcRect l="0" t="6566" r="0" b="6566"/>
          <a:stretch/>
        </p:blipFill>
        <p:spPr>
          <a:xfrm>
            <a:off x="1568520" y="685800"/>
            <a:ext cx="660384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pull dir="r"/>
      </p:transition>
    </mc:Choice>
    <mc:Fallback>
      <p:transition spd="slow">
        <p:pull dir="r"/>
      </p:transition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6720" y="78840"/>
            <a:ext cx="840132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New Features: Overview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1760" y="614160"/>
            <a:ext cx="8381880" cy="58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0">
              <a:spcBef>
                <a:spcPts val="601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enhancements are implemented in NS-2.1b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ain enhanc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0">
              <a:spcBef>
                <a:spcPts val="499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Simulation Configuration for Large Topolog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OPOGEN - topology gener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OPOMAN - topology manipul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CEN TOOLS - simulation and topology configur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S Addressing: 4 levels of hierarch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0">
              <a:spcBef>
                <a:spcPts val="499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NS-2 Extensions for WAN mobilit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Global Mobility: Mobility between sit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obility management protocols: Mobile IPv6 / HMIPv6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Pv6 Featur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ulticast Extensions for wireless nod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0">
              <a:spcBef>
                <a:spcPts val="425"/>
              </a:spcBef>
              <a:buNone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pull dir="r"/>
      </p:transition>
    </mc:Choice>
    <mc:Fallback>
      <p:transition spd="slow">
        <p:pull dir="r"/>
      </p:transition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56720" y="78840"/>
            <a:ext cx="840132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New Features: Overview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49" name="architecture" descr=""/>
          <p:cNvPicPr/>
          <p:nvPr/>
        </p:nvPicPr>
        <p:blipFill>
          <a:blip r:embed="rId1"/>
          <a:stretch/>
        </p:blipFill>
        <p:spPr>
          <a:xfrm>
            <a:off x="743040" y="762120"/>
            <a:ext cx="858528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pull dir="r"/>
      </p:transition>
    </mc:Choice>
    <mc:Fallback>
      <p:transition spd="slow">
        <p:pull dir="r"/>
      </p:transition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56720" y="78840"/>
            <a:ext cx="840132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New Features - 1: Simulation Configuration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1760" y="614160"/>
            <a:ext cx="8381880" cy="58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ology creation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 TOPOG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ew translator from GT-ITM to NS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utput = TOPOMAN call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ology manipulation: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OPOM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Tcl library to create, query and manipulate topologies of any siz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ion scenario configuration: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CEN 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rocedures to configure simulation scenario by querying TOPOMA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 address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S hierarchical addressing ported from 3 levels to 4 level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ous TCL and shell scripts to configure simul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A, BS, CN selection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obility scenario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0">
              <a:spcBef>
                <a:spcPts val="425"/>
              </a:spcBef>
              <a:buNone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0">
              <a:spcBef>
                <a:spcPts val="499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pull dir="r"/>
      </p:transition>
    </mc:Choice>
    <mc:Fallback>
      <p:transition spd="slow">
        <p:pull dir="r"/>
      </p:transition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56720" y="78840"/>
            <a:ext cx="840132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New Features - 1: TOPOGEN Translator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1760" y="614160"/>
            <a:ext cx="8381880" cy="58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90440" indent="0">
              <a:spcBef>
                <a:spcPts val="425"/>
              </a:spcBef>
              <a:buNone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lator from GT-ITM to TOPOMAN c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ph in SGB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ach node, its id, site number,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ransit Router / Border Router / Site Router / Base Station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also specify how many BSs we want in each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ranslator computes their position within a grid according to grid size and # ( BS / site 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s between node nu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pull dir="r"/>
      </p:transition>
    </mc:Choice>
    <mc:Fallback>
      <p:transition spd="slow">
        <p:pull dir="r"/>
      </p:transition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6720" y="78840"/>
            <a:ext cx="840132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New Features - 1: TOPOMAN Library 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1760" y="614160"/>
            <a:ext cx="8381880" cy="58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0"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ibrary of OTcl procedures to create, query, manipulate topologies of any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fore or after effective NS node cre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mputation of routing table takes a while for large topologi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527120" indent="-21888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may want to display details about the topology before effectively running 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ode capabilities need to be specified before node cre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nce effective NS node creation started, not possible to add new nod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8680" indent="0"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pull dir="r"/>
      </p:transition>
    </mc:Choice>
    <mc:Fallback>
      <p:transition spd="slow">
        <p:pull dir="r"/>
      </p:transition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56720" y="78840"/>
            <a:ext cx="840132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New Features - 1: TOPOMAN Library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1760" y="614160"/>
            <a:ext cx="8381880" cy="58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0"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 = TOPOMAN procedure calls (generated by TOPOGEN or by hand) that cre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ministrative dom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des of specified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ray recording information for each no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ype of node (TN, BR, SR, BS, MN, more if needed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ode i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ode IP address (according to its position in the topology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c Arrays  to retrieve domain, site, etc, … the node belongs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0">
              <a:spcBef>
                <a:spcPts val="499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0">
              <a:spcBef>
                <a:spcPts val="499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pull dir="r"/>
      </p:transition>
    </mc:Choice>
    <mc:Fallback>
      <p:transition spd="slow">
        <p:pull dir="r"/>
      </p:transition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56720" y="78840"/>
            <a:ext cx="840132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New Features - 1: NS Addressing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61760" y="614160"/>
            <a:ext cx="8381880" cy="58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NS addressing = 3 levels maximu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ressing need to be configured in a very precise way to avoid lo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ard constrai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o precise documentation available :-(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level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s not enough for large topologi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till consume too much memor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ported NS addressing from 3 levels to 4 lev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ew HACKs in the OTCL scripts (mainly in ns-address.tc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xisting: domain_num_ + cluster_num + node_nu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e add: last_num_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XXX: would be better to have something like level_[i]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ification in route.cc and route.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pull dir="r"/>
      </p:transition>
    </mc:Choice>
    <mc:Fallback>
      <p:transition spd="slow">
        <p:pull dir="r"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6720" y="78840"/>
            <a:ext cx="840132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Objective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90320" y="693360"/>
            <a:ext cx="7124760" cy="56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25080" indent="-3250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ing a simulation platform to study mobility support in Wide-Area IPv6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080" indent="-3250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cessary feat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2360" indent="-27000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ying with large topolog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9280" indent="-21492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asy configuration and manipulation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02360" indent="-27000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l-area mobility (local mob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9280" indent="-21492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obility between adjacent cells of the same sit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79280" indent="-21492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geographical moveme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79280" indent="-21492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cess Routers are topologically close from one anoth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02360" indent="-27000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de-area mobility (global mob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9280" indent="-21492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obility between sites and domai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79280" indent="-21492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opological moveme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79280" indent="-21492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cess Routers are topologically distant from one anoth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02360" indent="-27000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v6 cap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2360" indent="-27000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e IPv6 and Hierarchical Mobile IPv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2360" indent="-27000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cast capabilities at both wired and wireless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2360" indent="0">
              <a:spcBef>
                <a:spcPts val="499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pull dir="r"/>
      </p:transition>
    </mc:Choice>
    <mc:Fallback>
      <p:transition spd="slow">
        <p:pull dir="r"/>
      </p:transition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4-level" descr=""/>
          <p:cNvPicPr/>
          <p:nvPr/>
        </p:nvPicPr>
        <p:blipFill>
          <a:blip r:embed="rId1"/>
          <a:srcRect l="1143" t="4698" r="5839" b="2714"/>
          <a:stretch/>
        </p:blipFill>
        <p:spPr>
          <a:xfrm>
            <a:off x="534960" y="692280"/>
            <a:ext cx="8618400" cy="55386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56720" y="78840"/>
            <a:ext cx="840132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New Features - 1: NS Addressing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pull dir="r"/>
      </p:transition>
    </mc:Choice>
    <mc:Fallback>
      <p:transition spd="slow">
        <p:pull dir="r"/>
      </p:transition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56720" y="78840"/>
            <a:ext cx="840132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New Features - 1: TOPOMAN Library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1760" y="614160"/>
            <a:ext cx="8381880" cy="58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OMAN alternatively produces NS addresses wit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3 levels of hierarchy (NS binary compiled with the existing route.cc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4 levels of hierarchy (NS binary compiled with the enhanced route.cc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0">
              <a:spcBef>
                <a:spcPts val="425"/>
              </a:spcBef>
              <a:buNone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4 levels of hierarch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as technically impossible to give the same NS prefix to TNs in same domain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527120" indent="-21888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 level identifies the sub-domain within the top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27120" indent="-21888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Domain comprise several sub-dom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27120" indent="-21888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Sub-domain always corresponds to a Transit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27120" indent="-21888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First leve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ub-doma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&gt; sub-domain pref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27120" indent="-21888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econd leve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i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ithin the sub-domain =&gt; site pref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27120" indent="-21888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Third leve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ubne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ithin site =&gt; subnet pref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27120" indent="-21888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Forth leve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hos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ithin sub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963800" indent="-217440">
              <a:spcBef>
                <a:spcPts val="326"/>
              </a:spcBef>
              <a:buClr>
                <a:srgbClr val="000000"/>
              </a:buClr>
              <a:buFont typeface="Helvetica"/>
              <a:buChar char="•"/>
              <a:tabLst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ransit Nodes:  &lt;Sub-Domain prefix&gt; .&lt;Site id = 0&gt;.&lt;Subnet = 0&gt;.0  e.g. 10.0.0.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4" marL="1963800" indent="-217440">
              <a:spcBef>
                <a:spcPts val="326"/>
              </a:spcBef>
              <a:buClr>
                <a:srgbClr val="000000"/>
              </a:buClr>
              <a:buFont typeface="Helvetica"/>
              <a:buChar char="•"/>
              <a:tabLst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R / SR / BS:  &lt;Sub-Domain prefix&gt;.&lt;Site id # 0&gt;.&lt;Subnet id&gt;.&lt;0&gt;: eg 10.1.0.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4" marL="1963800" indent="-217440">
              <a:spcBef>
                <a:spcPts val="326"/>
              </a:spcBef>
              <a:buClr>
                <a:srgbClr val="000000"/>
              </a:buClr>
              <a:buFont typeface="Helvetica"/>
              <a:buChar char="•"/>
              <a:tabLst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bile Nodes: &lt;Sub-Domain prefix&gt;.&lt;Site id # 0&gt;.&lt;Subnet id&gt;.&lt;id # 0&gt; eg:10.1.1.2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pull dir="r"/>
      </p:transition>
    </mc:Choice>
    <mc:Fallback>
      <p:transition spd="slow">
        <p:pull dir="r"/>
      </p:transition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56720" y="78840"/>
            <a:ext cx="840132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New Features - 1: SCEN TOOLS Library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61760" y="614160"/>
            <a:ext cx="8381880" cy="58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of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features may be added at wi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TOPOMAN Libra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enario specif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do we want to attach Base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 at which site / base station is visited by the mobile nod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are the correspondent nod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are the Base Stations attached t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 at which correspondent nodes starts / stop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enarios may be specified alternative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 file loaded in N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a procedure call in the simulation configuration script (preferred for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8680" indent="0"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pull dir="r"/>
      </p:transition>
    </mc:Choice>
    <mc:Fallback>
      <p:transition spd="slow">
        <p:pull dir="r"/>
      </p:transition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56720" y="78840"/>
            <a:ext cx="840132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New Features - 1: SCEN TOOLS Library 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1760" y="614160"/>
            <a:ext cx="8381880" cy="58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enario procedures (e.g.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ited Sit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lect X sites in the topolog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very &lt;interval&gt; seconds, set Mobile Node to site X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espondent Nod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lect X Site Routes in site 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nable Mobile IPv6 at each Xi and start traffic at time 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 St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lect 3 Site Routers from each sit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ttach 1 BS to each selected Site Rout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e No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lect 1BS station in site 10 and uses it as the Home Age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lect BR(s) for each sit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hoose one of the BRs as the Rendez-Vous Poi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pull dir="r"/>
      </p:transition>
    </mc:Choice>
    <mc:Fallback>
      <p:transition spd="slow">
        <p:pull dir="r"/>
      </p:transition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56720" y="78840"/>
            <a:ext cx="840132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New Features - 1: Topology Manipulation 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1760" y="614160"/>
            <a:ext cx="8381880" cy="58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TOPOM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your topolog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i="1" lang="en-US" sz="1700" spc="-1" strike="noStrike">
                <a:solidFill>
                  <a:srgbClr val="0000ff"/>
                </a:solidFill>
                <a:latin typeface="Arial"/>
              </a:rPr>
              <a:t>global TOPO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f you want</a:t>
            </a:r>
            <a:r>
              <a:rPr b="0" lang="en-US" sz="17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3 levels of hierarchy (default) and you are using mobile node(s):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527120" indent="0">
              <a:spcBef>
                <a:spcPts val="400"/>
              </a:spcBef>
              <a:buNone/>
              <a:tabLst>
                <a:tab algn="l" pos="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i="1" lang="en-US" sz="1600" spc="-1" strike="noStrike">
                <a:solidFill>
                  <a:srgbClr val="0000ff"/>
                </a:solidFill>
                <a:latin typeface="Arial"/>
              </a:rPr>
              <a:t>set TOPOM [new Topoman ALL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f you are using topologies with wired nodes only 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527120" indent="0">
              <a:spcBef>
                <a:spcPts val="400"/>
              </a:spcBef>
              <a:buNone/>
              <a:tabLst>
                <a:tab algn="l" pos="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i="1" lang="en-US" sz="1600" spc="-1" strike="noStrike">
                <a:solidFill>
                  <a:srgbClr val="0000ff"/>
                </a:solidFill>
                <a:latin typeface="Arial"/>
              </a:rPr>
              <a:t>set TOPOM [new Topoman WIREDONLY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f you want to run very large topologies with mobile node(s) :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527120" indent="0">
              <a:spcBef>
                <a:spcPts val="400"/>
              </a:spcBef>
              <a:buNone/>
              <a:tabLst>
                <a:tab algn="l" pos="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i="1" lang="en-US" sz="1600" spc="-1" strike="noStrike">
                <a:solidFill>
                  <a:srgbClr val="0000ff"/>
                </a:solidFill>
                <a:latin typeface="Arial"/>
              </a:rPr>
              <a:t>set TOPOM [new Topoman ENHANCED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27120" indent="-21888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 levels instead of 3 saves a lot of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27120" indent="0">
              <a:spcBef>
                <a:spcPts val="300"/>
              </a:spcBef>
              <a:buNone/>
              <a:tabLst>
                <a:tab algn="l" pos="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 in order to use the ENHANCED mode, you also need to compile NS with an updated file route.cc - you can not use 4 levels and 3 levels with the same NS bina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oad the topology with TOPOMAN calls (from file produced by TOPOGEN or by hand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pull dir="r"/>
      </p:transition>
    </mc:Choice>
    <mc:Fallback>
      <p:transition spd="slow">
        <p:pull dir="r"/>
      </p:transition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56720" y="78840"/>
            <a:ext cx="840132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New Features - 1: Topology Manipulation  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61760" y="614160"/>
            <a:ext cx="8381880" cy="58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gure your simul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27120" indent="-21888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need to effectively creat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27120" indent="-21888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need to call $ns_ ru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isplay the topology and various inform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527120" indent="-21888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mber of domains / sites / et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trieve information about the topology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527120" indent="-21888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eried by node_id / prefix / type of node / site id ..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27120" indent="-21888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retrieve all BRs, all Routers in site 10,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figure your simulation scenario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527120" indent="-21888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3 BSs in each s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27120" indent="-21888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a CN to each BR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simul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Call </a:t>
            </a:r>
            <a:r>
              <a:rPr b="0" i="1" lang="en-GB" sz="1700" spc="-1" strike="noStrike">
                <a:solidFill>
                  <a:srgbClr val="0000ff"/>
                </a:solidFill>
                <a:latin typeface="Arial"/>
              </a:rPr>
              <a:t>$TOPOM tm_create_topo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which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527120" indent="-21888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es NS addressing automatically (AddrPara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27120" indent="-21888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s NS node ob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27120" indent="-21888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necessary capabilities depending on type of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963800" indent="-217440">
              <a:spcBef>
                <a:spcPts val="326"/>
              </a:spcBef>
              <a:buClr>
                <a:srgbClr val="000000"/>
              </a:buClr>
              <a:buFont typeface="Helvetica"/>
              <a:buChar char="•"/>
              <a:tabLst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.g.: BS, CN and MN are running Mobile IPv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527120" indent="-21888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s lin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i="1" lang="en-US" sz="1700" spc="-1" strike="noStrike">
                <a:solidFill>
                  <a:srgbClr val="0000ff"/>
                </a:solidFill>
                <a:latin typeface="Arial"/>
              </a:rPr>
              <a:t>$ns ru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pull dir="r"/>
      </p:transition>
    </mc:Choice>
    <mc:Fallback>
      <p:transition spd="slow">
        <p:pull dir="r"/>
      </p:transition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56720" y="78840"/>
            <a:ext cx="840132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New Features - 2: Extensions for WAN mobility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1760" y="614160"/>
            <a:ext cx="8381880" cy="58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S-2 Extensions for WAN mobility in IPv6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v6 Exten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ity management protocol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obile IPv6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Hierarchical Mobile IPv6 - coming soon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cl procedu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o configure Class Node and Class Mobile Nod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-site mobility (global mobility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ach site is associated with one chann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bility to move from site to site (i.e. from channel to channel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c extens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ulticast support for wirless node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pull dir="r"/>
      </p:transition>
    </mc:Choice>
    <mc:Fallback>
      <p:transition spd="slow">
        <p:pull dir="r"/>
      </p:transition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56720" y="78840"/>
            <a:ext cx="840132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New Features - 2: </a:t>
            </a:r>
            <a:r>
              <a:rPr b="1" lang="en-GB" sz="2800" spc="-1" strike="noStrike">
                <a:solidFill>
                  <a:srgbClr val="0033cc"/>
                </a:solidFill>
                <a:latin typeface="Arial"/>
              </a:rPr>
              <a:t>IPv6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61760" y="614160"/>
            <a:ext cx="8381880" cy="58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25080" indent="-3250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ust added necessary features in order for MIPv6 to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080" indent="-3250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Pv6 Extensions headers (simplifi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2360" indent="-27000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uting H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080" indent="-3250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ighbour discovery (simplified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2360" indent="-27000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ly between BSs and 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2360" indent="-27000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uter Advertis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2360" indent="-27000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uter Solici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080" indent="-3250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uting Header processing at all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080" indent="-3250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capsulation / Decaps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2360" indent="-27000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de contributed by S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2360" indent="-27000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just add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9280" indent="-21492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the Encapsulation object at all nod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79280" indent="-21492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Decapsulation at the mobile nod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79280" indent="0">
              <a:spcBef>
                <a:spcPts val="425"/>
              </a:spcBef>
              <a:buNone/>
              <a:tabLst>
                <a:tab algn="l" pos="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(one line to change to add it at all nod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5080" indent="-3250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uch more to add: any volunteer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2360" indent="0">
              <a:spcBef>
                <a:spcPts val="499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pull dir="r"/>
      </p:transition>
    </mc:Choice>
    <mc:Fallback>
      <p:transition spd="slow">
        <p:pull dir="r"/>
      </p:transition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56720" y="78840"/>
            <a:ext cx="840132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New Features - 2: Mobile IPv6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1760" y="614160"/>
            <a:ext cx="8381880" cy="58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ed as a set of C++ / OTCL 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 Class = MIPv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ived Classes: BS / HA / CN / M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to add new derived classes (e.g.: HMIP MA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CL configuration proced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t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nding Updates and Binding Acknowledg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e Optim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ic detection of C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ing Header from the C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apsulation from the 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warding from the previous CoA to the new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sing Pie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nding Requests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 Piggybac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pull dir="r"/>
      </p:transition>
    </mc:Choice>
    <mc:Fallback>
      <p:transition spd="slow">
        <p:pull dir="r"/>
      </p:transition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56720" y="78840"/>
            <a:ext cx="840132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New Features - 2: MIPv6 for BS / HA and MN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79" name="mipv6-wireless" descr=""/>
          <p:cNvPicPr/>
          <p:nvPr/>
        </p:nvPicPr>
        <p:blipFill>
          <a:blip r:embed="rId1"/>
          <a:srcRect l="0" t="5277" r="5328" b="0"/>
          <a:stretch/>
        </p:blipFill>
        <p:spPr>
          <a:xfrm>
            <a:off x="1004760" y="566640"/>
            <a:ext cx="748692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pull dir="r"/>
      </p:transition>
    </mc:Choice>
    <mc:Fallback>
      <p:transition spd="slow">
        <p:pull dir="r"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internet" descr=""/>
          <p:cNvPicPr/>
          <p:nvPr/>
        </p:nvPicPr>
        <p:blipFill>
          <a:blip r:embed="rId1"/>
          <a:stretch/>
        </p:blipFill>
        <p:spPr>
          <a:xfrm>
            <a:off x="743040" y="685800"/>
            <a:ext cx="8420040" cy="56991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6720" y="78840"/>
            <a:ext cx="840132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Objective: Mobility in a WAN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80240" y="4627440"/>
            <a:ext cx="1612800" cy="1636920"/>
          </a:xfrm>
          <a:custGeom>
            <a:avLst/>
            <a:gdLst/>
            <a:ahLst/>
            <a:rect l="l" t="t" r="r" b="b"/>
            <a:pathLst>
              <a:path w="1016" h="1031">
                <a:moveTo>
                  <a:pt x="395" y="1031"/>
                </a:moveTo>
                <a:lnTo>
                  <a:pt x="1016" y="389"/>
                </a:lnTo>
                <a:lnTo>
                  <a:pt x="458" y="0"/>
                </a:lnTo>
                <a:lnTo>
                  <a:pt x="0" y="226"/>
                </a:lnTo>
                <a:lnTo>
                  <a:pt x="105" y="699"/>
                </a:lnTo>
                <a:lnTo>
                  <a:pt x="663" y="417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08080" y="5635080"/>
            <a:ext cx="1155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ff"/>
                </a:solidFill>
                <a:latin typeface="Arial"/>
              </a:rPr>
              <a:t>Local Mobili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ff"/>
                </a:solidFill>
                <a:latin typeface="Arial"/>
              </a:rPr>
              <a:t>(within a si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05320" y="4651200"/>
            <a:ext cx="3170160" cy="640080"/>
          </a:xfrm>
          <a:custGeom>
            <a:avLst/>
            <a:gdLst/>
            <a:ahLst/>
            <a:rect l="l" t="t" r="r" b="b"/>
            <a:pathLst>
              <a:path w="1997" h="403">
                <a:moveTo>
                  <a:pt x="1997" y="403"/>
                </a:moveTo>
                <a:lnTo>
                  <a:pt x="854" y="0"/>
                </a:lnTo>
                <a:lnTo>
                  <a:pt x="0" y="389"/>
                </a:lnTo>
              </a:path>
            </a:pathLst>
          </a:custGeom>
          <a:noFill/>
          <a:ln w="381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838400" y="4153680"/>
            <a:ext cx="2099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c0128"/>
                </a:solidFill>
                <a:latin typeface="Arial"/>
              </a:rPr>
              <a:t>Global Mo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c0128"/>
                </a:solidFill>
                <a:latin typeface="Arial"/>
              </a:rPr>
              <a:t>(between sites or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1808600">
            <a:off x="3711240" y="4471200"/>
            <a:ext cx="1612800" cy="1636920"/>
          </a:xfrm>
          <a:custGeom>
            <a:avLst/>
            <a:gdLst/>
            <a:ahLst/>
            <a:rect l="l" t="t" r="r" b="b"/>
            <a:pathLst>
              <a:path w="1016" h="1031">
                <a:moveTo>
                  <a:pt x="395" y="1031"/>
                </a:moveTo>
                <a:lnTo>
                  <a:pt x="1016" y="389"/>
                </a:lnTo>
                <a:lnTo>
                  <a:pt x="458" y="0"/>
                </a:lnTo>
                <a:lnTo>
                  <a:pt x="0" y="226"/>
                </a:lnTo>
                <a:lnTo>
                  <a:pt x="105" y="699"/>
                </a:lnTo>
                <a:lnTo>
                  <a:pt x="663" y="417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pull dir="r"/>
      </p:transition>
    </mc:Choice>
    <mc:Fallback>
      <p:transition spd="slow">
        <p:pull dir="r"/>
      </p:transition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56720" y="78840"/>
            <a:ext cx="840132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New Features - 2: MIPv6 for wired nodes (CN)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81" name="mipv6-wired" descr=""/>
          <p:cNvPicPr/>
          <p:nvPr/>
        </p:nvPicPr>
        <p:blipFill>
          <a:blip r:embed="rId1"/>
          <a:srcRect l="0" t="3827" r="6047" b="0"/>
          <a:stretch/>
        </p:blipFill>
        <p:spPr>
          <a:xfrm>
            <a:off x="155520" y="633240"/>
            <a:ext cx="9572760" cy="561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pull dir="r"/>
      </p:transition>
    </mc:Choice>
    <mc:Fallback>
      <p:transition spd="slow">
        <p:pull dir="r"/>
      </p:transition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56720" y="78840"/>
            <a:ext cx="840132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New Features - 2: Inter-Site Mobility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61760" y="614160"/>
            <a:ext cx="8381880" cy="58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site is associated with a “channel objec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sites have the same geographical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Ss in the same site listen and speak on the same cha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Ss have (x,y) co-ordinates within the site bound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N may continue to move within the site using NS-2 existing Mobility Model developed by C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ing from one site to an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N changes the channel it is listening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76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netif_ points to the current chann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require the MN to change its geographical coordin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e MN enters in a new site with the same coordinates it has in the previous sit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s does not interact with NS-2 existing mobility model: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527120" indent="-21888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a geographical movement is scheduled, it still wi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enario determines time at which the Mobile Node may move from one site to an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0"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pull dir="r"/>
      </p:transition>
    </mc:Choice>
    <mc:Fallback>
      <p:transition spd="slow">
        <p:pull dir="r"/>
      </p:transition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multi-sites" descr=""/>
          <p:cNvPicPr/>
          <p:nvPr/>
        </p:nvPicPr>
        <p:blipFill>
          <a:blip r:embed="rId1"/>
          <a:srcRect l="0" t="4050" r="5492" b="0"/>
          <a:stretch/>
        </p:blipFill>
        <p:spPr>
          <a:xfrm>
            <a:off x="330120" y="685800"/>
            <a:ext cx="9245520" cy="578340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56720" y="78840"/>
            <a:ext cx="840132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New Features - 2: Inter-site mobility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pull dir="r"/>
      </p:transition>
    </mc:Choice>
    <mc:Fallback>
      <p:transition spd="slow">
        <p:pull dir="r"/>
      </p:transition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56720" y="78840"/>
            <a:ext cx="840132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Conclusion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1760" y="614160"/>
            <a:ext cx="8381880" cy="58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S-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dely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antly evol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NS-2 Enhancement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ed in the spirit of re-usability for other projects involving mobility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ime of start-up of this project, NS-2.1b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did our best to follow NS-2 evolu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r enhancements are working on NS-2.1b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S team currently developing NS-2.1b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pe that our code will be incorporated in the NS-2.1b8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 wish is that developed features are going to be used by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k a lot of time ; still much more to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bugs and XXX in the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pull dir="r"/>
      </p:transition>
    </mc:Choice>
    <mc:Fallback>
      <p:transition spd="slow">
        <p:pull dir="r"/>
      </p:transition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46280" y="0"/>
            <a:ext cx="840096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Arial"/>
              </a:rPr>
              <a:t>Thank you</a:t>
            </a:r>
            <a:r>
              <a:rPr b="1" lang="en-GB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33cc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1760" y="569520"/>
            <a:ext cx="8381880" cy="58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0"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e more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erry Erns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inrialpes.fr/planete/mobiw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8680" indent="0">
              <a:spcBef>
                <a:spcPts val="601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pull dir="r"/>
      </p:transition>
    </mc:Choice>
    <mc:Fallback>
      <p:transition spd="slow">
        <p:pull dir="r"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56720" y="78840"/>
            <a:ext cx="840132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Existing NS-2 Presentation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90320" y="693720"/>
            <a:ext cx="712476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S-2 (Network Simulator) from University of California at Berkel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rete time event simul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 Orie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ed under the VINT proje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onsored by Xerox Park, LBNL, USC/LS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isi.edu/nsnam/ns/index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t release: NS-2.1b7 fall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S-2.1b8 currently unde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 developed in C++ and OTcl (object TC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pull dir="r"/>
      </p:transition>
    </mc:Choice>
    <mc:Fallback>
      <p:transition spd="slow">
        <p:pull dir="r"/>
      </p:transition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6720" y="78840"/>
            <a:ext cx="840132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Existing NS-2 Presentation: Features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90320" y="693360"/>
            <a:ext cx="7124760" cy="57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21840" indent="-32184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: C++ and O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1840" indent="-32184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cl - Object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5160" indent="-26712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preted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5160" indent="-26712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require compi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1840" indent="-32184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lass is mirrored both in C++ and O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5160" indent="-26712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 variables may alternatively be accessed from C++ or O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5160" indent="-26712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dure calls between C++ and O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1840" indent="-32184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CLmainly us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276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o aggregate objects to form various types of nod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276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o access objects from the interpret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276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o configure simula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1840" indent="-32184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++ mainl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276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o create base classe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276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hen more processing is required (routing table computation, mobility movement, …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pull dir="r"/>
      </p:transition>
    </mc:Choice>
    <mc:Fallback>
      <p:transition spd="slow">
        <p:pull dir="r"/>
      </p:transition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56720" y="78840"/>
            <a:ext cx="840132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Existing NS-2 Presentation: Features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90320" y="693720"/>
            <a:ext cx="7124760" cy="55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25080" indent="-3250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2360" indent="-27000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BR, HTML, TELNET, FTP,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080" indent="-3250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 Proto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2360" indent="-27000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DP, TCP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080" indent="-3250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ing Proto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2360" indent="-27000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cast (static / dynami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2360" indent="-27000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cast (DVMRP, CB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080" indent="-3250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ue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080" indent="-3250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bi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2360" indent="-27000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l Mobility within a geographical are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2360" indent="-27000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-Hoc routing protoc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2360" indent="-27000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 MAC 802.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2360" indent="-27000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tellite constel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2360" indent="-27000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e IPv4 (without routing optimiz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pull dir="r"/>
      </p:transition>
    </mc:Choice>
    <mc:Fallback>
      <p:transition spd="slow">
        <p:pull dir="r"/>
      </p:transition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6720" y="78840"/>
            <a:ext cx="840132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Existing NS-2 Presentation: Using NS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1760" y="614160"/>
            <a:ext cx="8381880" cy="58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09560" indent="0">
              <a:spcBef>
                <a:spcPts val="499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ion configuration via a TC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the network top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ulation config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dd protocol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reate traffi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ostpone eve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opulate the neighborhood information for each nod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tatic routing table is computed for each clust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opulate routing table for each nod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chedule eve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race outpu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explo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WK - Perl - Gnuplot scrip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pull dir="r"/>
      </p:transition>
    </mc:Choice>
    <mc:Fallback>
      <p:transition spd="slow">
        <p:pull dir="r"/>
      </p:transition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6720" y="78840"/>
            <a:ext cx="840132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Existing NS-2 Presentation: Nodes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1760" y="614160"/>
            <a:ext cx="8381880" cy="58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topology = a collection of nodes and li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ed nodes (class Node) are connected by means of Li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eless nodes (class MobileNode) are connected by means of Chan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8680" indent="0">
              <a:spcBef>
                <a:spcPts val="499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spcBef>
                <a:spcPts val="60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d top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No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red nodes onl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mposed by a set of objects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527120" indent="-21888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ifiers (static routing, port demux, et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27120" indent="-21888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ents ( i.e. objects simulating protocols [TCP, UDP, …]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272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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Lin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425"/>
              </a:spcBef>
              <a:buClr>
                <a:srgbClr val="000000"/>
              </a:buClr>
              <a:buFont typeface="Helvetica"/>
              <a:buChar char="•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mposed by a set of objects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527120" indent="-21888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eue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27120" indent="-21888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T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27120" indent="-21888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pull dir="r"/>
      </p:transition>
    </mc:Choice>
    <mc:Fallback>
      <p:transition spd="slow">
        <p:pull dir="r"/>
      </p:transition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11T09:41:02Z</dcterms:created>
  <dc:creator>Latif LADID</dc:creator>
  <dc:description/>
  <cp:keywords>Kader</cp:keywords>
  <dc:language>en-US</dc:language>
  <cp:lastModifiedBy>Moyens Informatiques</cp:lastModifiedBy>
  <cp:lastPrinted>2001-06-01T17:54:52Z</cp:lastPrinted>
  <dcterms:modified xsi:type="dcterms:W3CDTF">2001-06-01T19:11:42Z</dcterms:modified>
  <cp:revision>738</cp:revision>
  <dc:subject/>
  <dc:title>IPv6 Forum</dc:title>
</cp:coreProperties>
</file>