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907588" cy="6858000"/>
  <p:notesSz cx="9918700" cy="6757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56720" y="78840"/>
            <a:ext cx="84013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568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2960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176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568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2960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720" y="78840"/>
            <a:ext cx="84013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5829480"/>
            <a:ext cx="9906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104400" y="6284880"/>
            <a:ext cx="801720" cy="573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7612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PLANETE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800" y="6486480"/>
            <a:ext cx="84758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Mot._Labs.Hrzntl_frmt.BoW" descr=""/>
          <p:cNvPicPr/>
          <p:nvPr/>
        </p:nvPicPr>
        <p:blipFill>
          <a:blip r:embed="rId4"/>
          <a:stretch/>
        </p:blipFill>
        <p:spPr>
          <a:xfrm>
            <a:off x="0" y="6464160"/>
            <a:ext cx="2367000" cy="393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22640" y="6556320"/>
            <a:ext cx="5251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BIWAN - Thierry Ernst - May 2001 - </a:t>
            </a:r>
            <a:fld id="{DBE689CD-871B-4F8B-B7C7-0FBBACD665A2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8240" y="554040"/>
            <a:ext cx="83962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29480"/>
            <a:ext cx="9906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53080"/>
            <a:ext cx="8991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120" y="6556320"/>
            <a:ext cx="853452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ierry Ernst - May 2001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fld id="{0AC49311-A003-4A73-A99D-B6F2A8040D9B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6002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ot._Labs.Hrzntl_frmt.BoW" descr=""/>
          <p:cNvPicPr/>
          <p:nvPr/>
        </p:nvPicPr>
        <p:blipFill>
          <a:blip r:embed="rId3"/>
          <a:stretch/>
        </p:blipFill>
        <p:spPr>
          <a:xfrm>
            <a:off x="2476440" y="223920"/>
            <a:ext cx="5008680" cy="830160"/>
          </a:xfrm>
          <a:prstGeom prst="rect">
            <a:avLst/>
          </a:prstGeom>
          <a:ln w="0">
            <a:noFill/>
          </a:ln>
        </p:spPr>
      </p:pic>
      <p:pic>
        <p:nvPicPr>
          <p:cNvPr id="53" name="logo_inria_ra_370x110" descr=""/>
          <p:cNvPicPr/>
          <p:nvPr/>
        </p:nvPicPr>
        <p:blipFill>
          <a:blip r:embed="rId4"/>
          <a:stretch/>
        </p:blipFill>
        <p:spPr>
          <a:xfrm>
            <a:off x="2840040" y="1285920"/>
            <a:ext cx="3008160" cy="893880"/>
          </a:xfrm>
          <a:prstGeom prst="rect">
            <a:avLst/>
          </a:prstGeom>
          <a:ln w="0">
            <a:noFill/>
          </a:ln>
        </p:spPr>
      </p:pic>
      <p:pic>
        <p:nvPicPr>
          <p:cNvPr id="54" name="planete-logo" descr=""/>
          <p:cNvPicPr/>
          <p:nvPr/>
        </p:nvPicPr>
        <p:blipFill>
          <a:blip r:embed="rId5"/>
          <a:srcRect l="0" t="12046" r="0" b="15731"/>
          <a:stretch/>
        </p:blipFill>
        <p:spPr>
          <a:xfrm>
            <a:off x="5937120" y="1592280"/>
            <a:ext cx="1525680" cy="36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2000" y="2351160"/>
            <a:ext cx="82296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 algn="ctr">
              <a:spcBef>
                <a:spcPts val="499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79200" algn="ctr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90520" indent="117720" algn="ctr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158760" algn="ctr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15876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15876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4080" y="2453760"/>
            <a:ext cx="8382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biWan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S-2 Simulation Platform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o study mobility support in IPv6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ide-Area Network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01560" y="439056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erry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OROLA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INRIA Rhône-Al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www.inrialpes.fr/planete/mob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Mobile Nod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top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obileNo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less Nod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k Mobile Nodes to wired the wired top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 Mobile Nodes with speed=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 inherited from Class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Ad-Hoc routing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Link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less broadcast medium (i.e. the air interfac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agation mode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ay = f(distance between sender/receiver + alph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Class MobileNode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dsdv" descr=""/>
          <p:cNvPicPr/>
          <p:nvPr/>
        </p:nvPicPr>
        <p:blipFill>
          <a:blip r:embed="rId1">
            <a:lum contrast="24000"/>
          </a:blip>
          <a:srcRect l="0" t="0" r="5324" b="0"/>
          <a:stretch/>
        </p:blipFill>
        <p:spPr>
          <a:xfrm>
            <a:off x="1568520" y="685800"/>
            <a:ext cx="66038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Mobile IPv4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wireless-mip" descr=""/>
          <p:cNvPicPr/>
          <p:nvPr/>
        </p:nvPicPr>
        <p:blipFill>
          <a:blip r:embed="rId1"/>
          <a:srcRect l="0" t="4943" r="5415" b="1362"/>
          <a:stretch/>
        </p:blipFill>
        <p:spPr>
          <a:xfrm>
            <a:off x="1403280" y="685800"/>
            <a:ext cx="7180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Local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ontributed by C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within a limited geographic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area represented by a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= wireless broadcast medium (i.e. the air interface) in the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has a propagation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ay = f(distance between sender/receiver + alph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is moving within the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has a speed on moves towards a specified co-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Mov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es starting position and future dest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Mov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ose randomly new position and spe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Local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site_cover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8942400" cy="4229280"/>
          </a:xfrm>
          <a:prstGeom prst="rect">
            <a:avLst/>
          </a:prstGeom>
          <a:ln w="0">
            <a:noFill/>
          </a:ln>
        </p:spPr>
      </p:pic>
      <p:cxnSp>
        <p:nvCxnSpPr>
          <p:cNvPr id="126" name=""/>
          <p:cNvCxnSpPr>
            <a:stCxn id="125" idx="1"/>
            <a:endCxn id="125" idx="1"/>
          </p:cNvCxnSpPr>
          <p:nvPr/>
        </p:nvCxnSpPr>
        <p:spPr>
          <a:xfrm>
            <a:off x="495000" y="340956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60240" y="1905120"/>
            <a:ext cx="3219480" cy="3504960"/>
          </a:xfrm>
          <a:custGeom>
            <a:avLst/>
            <a:gdLst/>
            <a:ahLst/>
            <a:rect l="l" t="t" r="r" b="b"/>
            <a:pathLst>
              <a:path w="1872" h="2208">
                <a:moveTo>
                  <a:pt x="48" y="624"/>
                </a:moveTo>
                <a:lnTo>
                  <a:pt x="912" y="0"/>
                </a:lnTo>
                <a:lnTo>
                  <a:pt x="1680" y="480"/>
                </a:lnTo>
                <a:lnTo>
                  <a:pt x="1872" y="1200"/>
                </a:lnTo>
                <a:lnTo>
                  <a:pt x="672" y="2208"/>
                </a:lnTo>
                <a:lnTo>
                  <a:pt x="0" y="1440"/>
                </a:lnTo>
                <a:lnTo>
                  <a:pt x="864" y="816"/>
                </a:lnTo>
              </a:path>
            </a:pathLst>
          </a:custGeom>
          <a:noFill/>
          <a:ln w="572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3880" y="3048120"/>
            <a:ext cx="33012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614520"/>
            <a:ext cx="838188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ty within a geograph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addr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lay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y decreases routing tab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cluster in the sam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node in the same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ies may be generated using GT-I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odel realistic Internet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graphs the reflect locality and hierarchy presents i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the Transit-Stub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 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ry sizes ( from tens to thousand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kind of no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it Nodes ~ backbone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ub Node ~ site rou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topology_3" descr=""/>
          <p:cNvPicPr/>
          <p:nvPr/>
        </p:nvPicPr>
        <p:blipFill>
          <a:blip r:embed="rId1"/>
          <a:srcRect l="0" t="5522" r="5567" b="0"/>
          <a:stretch/>
        </p:blipFill>
        <p:spPr>
          <a:xfrm>
            <a:off x="247680" y="685800"/>
            <a:ext cx="94107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ation: from GT-ITM to N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s sgb2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sgb2hi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, a NS OTCL call to create the node, and its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esses with 1 level of hierarchy for sgb2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esses with 3 levels of hierarchy for sgbhier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n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ransi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ransit nodes / transi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tub domains / transi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tub nodes per stub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for Transit nodes in same domain to be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for Stub nodes in same stub to be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b domains may be connected (default is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NS-2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ieces in NS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S-2 Features for wide-area mobility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Translation and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site Mo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 in NS-2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way to configure large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-area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= limited geographi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to expand a geographical area to the size of a WAN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to determine coordinates in a WAN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cannot moves from one grid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obileNode class and hierarchical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ulticast and Wireles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 : Large Topologies Manipul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translator from GT-ITM to NS is not suitable to manipulate large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of the node in the topology is lost by the existing sgb2ns 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ifferentiate nodes according to their function in the top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 Nodes are backbon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b Nodes are routers within a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onnecting stubs to a transit nodes are Borde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onnecting a wireless nodes to the wired network are Base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: Large Topologies Manipul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nam" descr=""/>
          <p:cNvPicPr/>
          <p:nvPr/>
        </p:nvPicPr>
        <p:blipFill>
          <a:blip r:embed="rId1"/>
          <a:srcRect l="0" t="6566" r="0" b="6566"/>
          <a:stretch/>
        </p:blipFill>
        <p:spPr>
          <a:xfrm>
            <a:off x="1568520" y="685800"/>
            <a:ext cx="6603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: Overview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enhancements are implemented in NS-2.1b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ain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imulation Configuration for Large Topolo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GEN - topology gen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MAN - topology mani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CEN TOOLS - simulation and topology configu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S Addressing: 4 levels of hierarc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S-2 Extensions for WAN mo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 Mobility: Mobility between si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management protocols: Mobile IPv6 / HMIPv6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Pv6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cast Extensions for wireless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: Overview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architecture" descr=""/>
          <p:cNvPicPr/>
          <p:nvPr/>
        </p:nvPicPr>
        <p:blipFill>
          <a:blip r:embed="rId1"/>
          <a:stretch/>
        </p:blipFill>
        <p:spPr>
          <a:xfrm>
            <a:off x="743040" y="762120"/>
            <a:ext cx="85852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imulation Configur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re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OP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translator from GT-ITM to N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tput = TOPOMAN ca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manipul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PO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cl library to create, query and manipulate topologies of any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cenario configur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EN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dures to configure simulation scenario by querying TOPOM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dr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S hierarchical addressing ported from 3 levels to 4 leve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TCL and shell scripts to configure sim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, BS, CN selec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scenari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GEN Translator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 from GT-ITM to TOPOMA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, its id, site number,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it Router / Border Router / Site Router / Base St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lso specify how many BSs we want in each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lator computes their position within a grid according to grid size and # ( BS / site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n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brary of OTcl procedures to create, query, manipulate topologies of an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or after effective NS nod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utation of routing table takes a while for large topolog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y want to display details about the topology before effectively running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capabilities need to be specified before node cre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ce effective NS node creation started, not possible to add new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TOPOMAN procedure calls (generated by TOPOGEN or by hand) that cre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of specifie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recording information for each n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 of node (TN, BR, SR, BS, MN, more if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IP address (according to its position in the topolog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 Arrays  to retrieve domain, site, etc, … the node belong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NS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NS addressing = 3 levels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need to be configured in a very precise way to avoid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precise documentation available :-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ev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 not enough for large topolog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ll consume too much mem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orted NS addressing from 3 levels to 4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HACKs in the OTCL scripts (mainly in ns-address.t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isting: domain_num_ + cluster_num + node_nu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add: last_num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XX: would be better to have something like level_[i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in route.cc and route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jectiv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0320" y="693360"/>
            <a:ext cx="7124760" cy="56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simulation platform to study mobility support in Wide-Area IPv6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ing with large topolo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sy configuration and manipul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-area mobility (local mo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between adjacent cells of the same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ographical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s Routers are topologically close from one an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-area mobility (global mo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between sites and doma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logical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s Routers are topologically distant from one an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6 and Hierarchical Mobile I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capabilities at both wired and wireless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4-level" descr=""/>
          <p:cNvPicPr/>
          <p:nvPr/>
        </p:nvPicPr>
        <p:blipFill>
          <a:blip r:embed="rId1"/>
          <a:srcRect l="1143" t="4698" r="5839" b="2714"/>
          <a:stretch/>
        </p:blipFill>
        <p:spPr>
          <a:xfrm>
            <a:off x="534960" y="692280"/>
            <a:ext cx="8618400" cy="5538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NS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MAN alternatively produces NS addresse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levels of hierarchy (NS binary compiled with the existing route.c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levels of hierarchy (NS binary compiled with the enhanced route.c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4 levels of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as technically impossible to give the same NS prefix to TNs in same domai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evel identifies the sub-domain within the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omain comprise several sub-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-domain always corresponds to a Transi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irst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-do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&gt; sub-domain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cond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the sub-domain =&gt; site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rd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site =&gt; subnet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orth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it Nodes:  &lt;Sub-Domain prefix&gt; .&lt;Site id = 0&gt;.&lt;Subnet = 0&gt;.0  e.g.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 / SR / BS:  &lt;Sub-Domain prefix&gt;.&lt;Site id # 0&gt;.&lt;Subnet id&gt;.&lt;0&gt;: eg 10.1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Nodes: &lt;Sub-Domain prefix&gt;.&lt;Site id # 0&gt;.&lt;Subnet id&gt;.&lt;id # 0&gt; eg:10.1.1.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CEN TOOLS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eatures may be added a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OPOMAN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specif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o we want to attach Base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t which site / base station is visited by the mobile 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re the correspondent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re the Base Stations attached 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t which correspondent nodes starts / sto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may be specified alterna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file loaded in 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 procedure call in the simulation configuration script (preferred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CEN TOOLS Library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procedures (e.g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ed 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X sites in the topolog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ery &lt;interval&gt; seconds, set Mobile Node to site X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X Site Routes in site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able Mobile IPv6 at each Xi and start traffic at time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3 Site Routers from each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tach 1 BS to each selected Site Rou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1BS station in site 10 and uses it as the Home Ag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BR(s) for each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oose one of the BRs as the Rendez-Vou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logy Manipulation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TOPO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your top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700" spc="-1" strike="noStrike">
                <a:solidFill>
                  <a:srgbClr val="0000ff"/>
                </a:solidFill>
                <a:latin typeface="Arial"/>
              </a:rPr>
              <a:t>global TOP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want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levels of hierarchy (default) and you are using mobile node(s)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ALL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are using topologies with wired nodes only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WIREDONLY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want to run very large topologies with mobile node(s)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ENHANC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levels instead of 3 saves a lot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3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n order to use the ENHANCED mode, you also need to compile NS with an updated file route.cc - you can not use 4 levels and 3 levels with the same NS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ad the topology with TOPOMAN calls (from file produced by TOPOGEN or by han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logy Manipulation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your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effectively creat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call $ns_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play the topology and various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domains / sites /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e information about the topolog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ied by node_id / prefix / type of node / site id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trieve all BRs, all Routers in site 10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figure your simulation scenari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3 BSs in each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CN to each BR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GB" sz="1700" spc="-1" strike="noStrike">
                <a:solidFill>
                  <a:srgbClr val="0000ff"/>
                </a:solidFill>
                <a:latin typeface="Arial"/>
              </a:rPr>
              <a:t>$TOPOM tm_create_top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whic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s NS addressing automatically (AddrPar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NS node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necessary capabilities depending on type of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: BS, CN and MN are running Mobile IPv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700" spc="-1" strike="noStrike">
                <a:solidFill>
                  <a:srgbClr val="0000ff"/>
                </a:solidFill>
                <a:latin typeface="Arial"/>
              </a:rPr>
              <a:t>$ns r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Extensions for WAN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Extensions for WAN mobility in IPv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e IPv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Hierarchical Mobile IPv6 - coming so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cl proced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onfigure Class Node and Class Mobile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site mobility (global mobilit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site is associated with one cha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move from site to site (i.e. from channel to channel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 exten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cast support for wirless nod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Pv6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dded necessary features in order for MIPv6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v6 Extensions headers (simp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ur discovery (simplifi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between BSs and 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r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r Soli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Header processing at all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ion / De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 contributed by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just ad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e Encapsulation object at all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ecapsulation at the mobile no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spcBef>
                <a:spcPts val="425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one line to change to add it at all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more to add: any volunte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obile IPv6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set of C++ / OTC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lass = M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Classes: BS / HA / CN /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add new derived classes (e.g.: HMIP 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CL configura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Updates and Binding 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detection of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Header from the 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from the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ing from the previous CoA to the ne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Request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 Piggyb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IPv6 for BS / HA and M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mipv6-wireless" descr=""/>
          <p:cNvPicPr/>
          <p:nvPr/>
        </p:nvPicPr>
        <p:blipFill>
          <a:blip r:embed="rId1"/>
          <a:srcRect l="0" t="5277" r="5328" b="0"/>
          <a:stretch/>
        </p:blipFill>
        <p:spPr>
          <a:xfrm>
            <a:off x="1004760" y="566640"/>
            <a:ext cx="74869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nternet" descr=""/>
          <p:cNvPicPr/>
          <p:nvPr/>
        </p:nvPicPr>
        <p:blipFill>
          <a:blip r:embed="rId1"/>
          <a:stretch/>
        </p:blipFill>
        <p:spPr>
          <a:xfrm>
            <a:off x="743040" y="685800"/>
            <a:ext cx="8420040" cy="5699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jective: Mobility in a WA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0240" y="4627440"/>
            <a:ext cx="1612800" cy="1636920"/>
          </a:xfrm>
          <a:custGeom>
            <a:avLst/>
            <a:gdLst/>
            <a:ahLst/>
            <a:rect l="l" t="t" r="r" b="b"/>
            <a:pathLst>
              <a:path w="1016" h="1031">
                <a:moveTo>
                  <a:pt x="395" y="1031"/>
                </a:moveTo>
                <a:lnTo>
                  <a:pt x="1016" y="389"/>
                </a:lnTo>
                <a:lnTo>
                  <a:pt x="458" y="0"/>
                </a:lnTo>
                <a:lnTo>
                  <a:pt x="0" y="226"/>
                </a:lnTo>
                <a:lnTo>
                  <a:pt x="105" y="699"/>
                </a:lnTo>
                <a:lnTo>
                  <a:pt x="663" y="4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8080" y="563508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Local Mobil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(within a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5320" y="4651200"/>
            <a:ext cx="3170160" cy="640080"/>
          </a:xfrm>
          <a:custGeom>
            <a:avLst/>
            <a:gdLst/>
            <a:ahLst/>
            <a:rect l="l" t="t" r="r" b="b"/>
            <a:pathLst>
              <a:path w="1997" h="403">
                <a:moveTo>
                  <a:pt x="1997" y="403"/>
                </a:moveTo>
                <a:lnTo>
                  <a:pt x="854" y="0"/>
                </a:lnTo>
                <a:lnTo>
                  <a:pt x="0" y="389"/>
                </a:ln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8400" y="415368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c0128"/>
                </a:solidFill>
                <a:latin typeface="Arial"/>
              </a:rPr>
              <a:t>Global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c0128"/>
                </a:solidFill>
                <a:latin typeface="Arial"/>
              </a:rPr>
              <a:t>(between sites or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1808600">
            <a:off x="3711240" y="4471200"/>
            <a:ext cx="1612800" cy="1636920"/>
          </a:xfrm>
          <a:custGeom>
            <a:avLst/>
            <a:gdLst/>
            <a:ahLst/>
            <a:rect l="l" t="t" r="r" b="b"/>
            <a:pathLst>
              <a:path w="1016" h="1031">
                <a:moveTo>
                  <a:pt x="395" y="1031"/>
                </a:moveTo>
                <a:lnTo>
                  <a:pt x="1016" y="389"/>
                </a:lnTo>
                <a:lnTo>
                  <a:pt x="458" y="0"/>
                </a:lnTo>
                <a:lnTo>
                  <a:pt x="0" y="226"/>
                </a:lnTo>
                <a:lnTo>
                  <a:pt x="105" y="699"/>
                </a:lnTo>
                <a:lnTo>
                  <a:pt x="663" y="4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IPv6 for wired nodes (CN)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mipv6-wired" descr=""/>
          <p:cNvPicPr/>
          <p:nvPr/>
        </p:nvPicPr>
        <p:blipFill>
          <a:blip r:embed="rId1"/>
          <a:srcRect l="0" t="3827" r="6047" b="0"/>
          <a:stretch/>
        </p:blipFill>
        <p:spPr>
          <a:xfrm>
            <a:off x="155520" y="633240"/>
            <a:ext cx="95727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Inter-Site Mo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te is associated with a “channel 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have the same geographic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 in the same site listen and speak on the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 have (x,y) co-ordinates within the sit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 may continue to move within the site using NS-2 existing Mobility Model developed by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one site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 changes the channel it is listen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if_ points to the current chan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the MN to change its geographical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N enters in a new site with the same coordinates it has in the previous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 does not interact with NS-2 existing mobility model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geographical movement is scheduled, it still 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termines time at which the Mobile Node may move from one site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multi-sites" descr=""/>
          <p:cNvPicPr/>
          <p:nvPr/>
        </p:nvPicPr>
        <p:blipFill>
          <a:blip r:embed="rId1"/>
          <a:srcRect l="0" t="4050" r="5492" b="0"/>
          <a:stretch/>
        </p:blipFill>
        <p:spPr>
          <a:xfrm>
            <a:off x="330120" y="685800"/>
            <a:ext cx="9245520" cy="5783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Inter-site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nclusion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ly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NS-2 Enhanc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the spirit of re-usability for other projects involving mobilit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ime of start-up of this project, NS-2.1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 our best to follow NS-2 ev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enhancements are working on NS-2.1b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 team currently developing NS-2.1b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hat our code will be incorporated in the NS-2.1b8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wish is that developed features are going to be us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a lot of time ; still much more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ugs and XXX in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0"/>
            <a:ext cx="8400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hank you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569520"/>
            <a:ext cx="838188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 mor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erry Ern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rialpes.fr/planete/mob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(Network Simulator) from University of California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 time event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under the VINT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ed by Xerox Park, LBNL, USC/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si.edu/nsnam/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lease: NS-2.1b7 fall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.1b8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developed in C++ and OTcl (object T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Featur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0320" y="693360"/>
            <a:ext cx="712476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C++ and 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 - Object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ass is mirrored both in C++ and 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variables may alternatively be accessed from C++ or O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calls between C++ and O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mainly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aggregate objects to form various types of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access objects from the interpre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onfigure simul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mai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reate base class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more processing is required (routing table computation, mobility movement, 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Featur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, HTML, TELNET, FTP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, TC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(static / dynam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(DVMRP, C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obility within a geographical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AC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conste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4 (without routing 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Using N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configuration via a TC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twork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protoco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ate traf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pone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pulate the neighborhood information for each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ic routing table is computed for each clu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pulate routing table for each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chedule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explo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WK - Perl - Gnuplot scrip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Nod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 = a collection of node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nodes (class Node) are connected by means of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nodes (class MobileNode) are connected by means of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top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N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d nodes on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iers (static routing, port demux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s ( i.e. objects simulating protocols [TCP, UDP, …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09:41:02Z</dcterms:created>
  <dc:creator>Thierry ERNST</dc:creator>
  <dc:description/>
  <cp:keywords>NS-2 Mobile IPv6</cp:keywords>
  <dc:language>en-US</dc:language>
  <cp:lastModifiedBy>Moyens Informatiques</cp:lastModifiedBy>
  <cp:lastPrinted>2001-06-01T17:54:52Z</cp:lastPrinted>
  <dcterms:modified xsi:type="dcterms:W3CDTF">2001-08-13T18:30:02Z</dcterms:modified>
  <cp:revision>739</cp:revision>
  <dc:subject/>
  <dc:title>Mobiwan: NS-2 Extensions</dc:title>
</cp:coreProperties>
</file>