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24B-52BF-4D7E-ADE4-64087E6F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702-D72D-4BD2-B2BF-6ED40809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AFC-AA72-440E-BBEC-59B864BD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AB2-344F-4909-BF64-660A985A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C1EF-534D-4C24-8E06-4773CA59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9B6A-8631-4F6F-ABAD-E7B23B4E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0DCA-BCE1-4C46-BA0C-ECEC78E3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3E3E-5F01-44E5-A5B8-42B44139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3CAF-6FCA-45C5-BFF1-13E269F9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1532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81B8-3F65-4235-B31E-CE10A983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AEA5-53A6-4A14-B9B6-99E8DEE5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693-9298-4685-8F3F-7425AE0B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A221-29B0-4EAB-8D22-D7A93AE4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8810-291E-4844-8C4A-F83AAF2F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7727-3478-4197-B059-6E5D3209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8A0E-E8C4-4BB7-B3CC-B34E7F25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BD7C-DA8D-40A0-9423-A2FE527C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5D36-3326-4ED2-A007-BA9A71D8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D3B-B1AB-46F3-B4C6-14636155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A2F-48B9-46A5-B318-16005984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1532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372-5422-4880-8C59-0E72E4DE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5BA-C58F-4262-A239-D685783A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7D9-D286-4ECD-AEDA-441A998E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A6C-C50A-46AE-907A-B91EEDB1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3280" y="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B0FB-5038-43A8-80DE-A6F0E338E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rmlogo" descr=""/>
          <p:cNvPicPr/>
          <p:nvPr/>
        </p:nvPicPr>
        <p:blipFill>
          <a:blip r:embed="rId2"/>
          <a:stretch/>
        </p:blipFill>
        <p:spPr>
          <a:xfrm>
            <a:off x="0" y="6469200"/>
            <a:ext cx="1533600" cy="388800"/>
          </a:xfrm>
          <a:prstGeom prst="rect">
            <a:avLst/>
          </a:prstGeom>
          <a:ln w="0">
            <a:noFill/>
          </a:ln>
        </p:spPr>
      </p:pic>
      <p:pic>
        <p:nvPicPr>
          <p:cNvPr id="6" name="inria-ra" descr=""/>
          <p:cNvPicPr/>
          <p:nvPr/>
        </p:nvPicPr>
        <p:blipFill>
          <a:blip r:embed="rId3"/>
          <a:stretch/>
        </p:blipFill>
        <p:spPr>
          <a:xfrm>
            <a:off x="7470720" y="6402240"/>
            <a:ext cx="167328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5FCA-5180-46D3-9537-9A0C0B64C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23880" y="22860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hierry Ernst - Claude Castelluccia - Hong-Yon L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Centre de Recherche de MOTOROLA Pa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et INRI A Rhône-Al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http://www.inrialpes.fr/planete/people/ernst/Welcom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13ème congrès DNAC 1-3 décembr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Les Réseaux Mobiles dans IPv6</a:t>
            </a:r>
            <a:endParaRPr b="0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6" name="crmlogo" descr=""/>
          <p:cNvPicPr/>
          <p:nvPr/>
        </p:nvPicPr>
        <p:blipFill>
          <a:blip r:embed="rId1"/>
          <a:stretch/>
        </p:blipFill>
        <p:spPr>
          <a:xfrm>
            <a:off x="0" y="0"/>
            <a:ext cx="1917720" cy="485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43400" y="4191120"/>
            <a:ext cx="920880" cy="604800"/>
          </a:xfrm>
          <a:prstGeom prst="rect">
            <a:avLst/>
          </a:prstGeom>
          <a:ln w="0">
            <a:noFill/>
          </a:ln>
        </p:spPr>
      </p:pic>
      <p:pic>
        <p:nvPicPr>
          <p:cNvPr id="88" name="inria-ra" descr=""/>
          <p:cNvPicPr/>
          <p:nvPr/>
        </p:nvPicPr>
        <p:blipFill>
          <a:blip r:embed="rId3"/>
          <a:stretch/>
        </p:blipFill>
        <p:spPr>
          <a:xfrm>
            <a:off x="7047000" y="0"/>
            <a:ext cx="20955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-IP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Nœuds mobiles avec Mobile-IPv4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bile-IPv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optimisation de rou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Internet Dra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mip-optimal" descr=""/>
          <p:cNvPicPr/>
          <p:nvPr/>
        </p:nvPicPr>
        <p:blipFill>
          <a:blip r:embed="rId1"/>
          <a:srcRect l="0" t="0" r="21547" b="0"/>
          <a:stretch/>
        </p:blipFill>
        <p:spPr>
          <a:xfrm>
            <a:off x="4952880" y="2362320"/>
            <a:ext cx="3571920" cy="2743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09480" y="1676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-IPv4 (RFC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mip-1stdata" descr=""/>
          <p:cNvPicPr/>
          <p:nvPr/>
        </p:nvPicPr>
        <p:blipFill>
          <a:blip r:embed="rId2"/>
          <a:srcRect l="0" t="0" r="17123" b="0"/>
          <a:stretch/>
        </p:blipFill>
        <p:spPr>
          <a:xfrm>
            <a:off x="762120" y="2438280"/>
            <a:ext cx="3733560" cy="2495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892-F073-42B0-A4AE-2B9036629B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-IP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Nœuds mobiles avec Mobile-IPv6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miers paqu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1640" y="16761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quets Suiv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mip-v6-1stdata" descr=""/>
          <p:cNvPicPr/>
          <p:nvPr/>
        </p:nvPicPr>
        <p:blipFill>
          <a:blip r:embed="rId1"/>
          <a:srcRect l="0" t="0" r="18817" b="0"/>
          <a:stretch/>
        </p:blipFill>
        <p:spPr>
          <a:xfrm>
            <a:off x="609480" y="2286000"/>
            <a:ext cx="3657600" cy="2352600"/>
          </a:xfrm>
          <a:prstGeom prst="rect">
            <a:avLst/>
          </a:prstGeom>
          <a:ln w="0">
            <a:noFill/>
          </a:ln>
        </p:spPr>
      </p:pic>
      <p:pic>
        <p:nvPicPr>
          <p:cNvPr id="117" name="mip-v6-optimal" descr=""/>
          <p:cNvPicPr/>
          <p:nvPr/>
        </p:nvPicPr>
        <p:blipFill>
          <a:blip r:embed="rId2"/>
          <a:srcRect l="0" t="0" r="12283" b="0"/>
          <a:stretch/>
        </p:blipFill>
        <p:spPr>
          <a:xfrm>
            <a:off x="4648320" y="2133720"/>
            <a:ext cx="3809880" cy="260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62320" y="10666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bile-IPv6 (Internet Dra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530-F0E7-4AD7-9135-0289BD2BF6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-IP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Principe général pour les réseaux mobiles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bile-IPv4 (RFC2002) propose de gérer un réseau mobile comme un nœud mobile quelconque: un réseau mobile n’est autre qu ’un routeur mo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routeur mobile (MNG) obtient une adresse temporaire à chacun de ses déplacements et l ’enregistre auprès de son HA (H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registrement de l’adresse temporaire auprès du 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mip-mobinet" descr=""/>
          <p:cNvPicPr/>
          <p:nvPr/>
        </p:nvPicPr>
        <p:blipFill>
          <a:blip r:embed="rId1"/>
          <a:srcRect l="0" t="0" r="6142" b="0"/>
          <a:stretch/>
        </p:blipFill>
        <p:spPr>
          <a:xfrm>
            <a:off x="4724280" y="1600200"/>
            <a:ext cx="4077000" cy="394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84E-0D2A-49EF-8DC0-E93F6D673A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Réseaux Mobiles avec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Mobile-IPv4: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Nœud mobile visitant un réseau mobile</a:t>
            </a:r>
            <a:endParaRPr b="0" i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3" name="MIP-Net-Host" descr=""/>
          <p:cNvPicPr/>
          <p:nvPr/>
        </p:nvPicPr>
        <p:blipFill>
          <a:blip r:embed="rId1"/>
          <a:stretch/>
        </p:blipFill>
        <p:spPr>
          <a:xfrm>
            <a:off x="1119240" y="1676520"/>
            <a:ext cx="690552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DD2-300E-4434-BC48-0BB69C8E55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éseaux Mobiles avec Mobile-IPv6: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Enregistrement avec le HA (HG)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5" name="monet-v6-BU-HG" descr=""/>
          <p:cNvPicPr/>
          <p:nvPr/>
        </p:nvPicPr>
        <p:blipFill>
          <a:blip r:embed="rId1"/>
          <a:srcRect l="0" t="4562" r="4984" b="1883"/>
          <a:stretch/>
        </p:blipFill>
        <p:spPr>
          <a:xfrm>
            <a:off x="152280" y="1523880"/>
            <a:ext cx="8731440" cy="466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EC7-AF6D-4AEE-9C4D-5AA3144D9E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éseaux Mobiles avec Mobile-IPv6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Premiers paquets de données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7" name="monet-v6-1stdata" descr=""/>
          <p:cNvPicPr/>
          <p:nvPr/>
        </p:nvPicPr>
        <p:blipFill>
          <a:blip r:embed="rId1"/>
          <a:srcRect l="0" t="6131" r="6254" b="0"/>
          <a:stretch/>
        </p:blipFill>
        <p:spPr>
          <a:xfrm>
            <a:off x="228600" y="1371600"/>
            <a:ext cx="8734320" cy="470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0D8-4DB7-42E0-A624-A870DD9EE3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éseaux Mobiles avec Mobile-IPv6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Comment obtenir un routage optimal ?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9" name="monet-v6-afterBU" descr=""/>
          <p:cNvPicPr/>
          <p:nvPr/>
        </p:nvPicPr>
        <p:blipFill>
          <a:blip r:embed="rId1"/>
          <a:srcRect l="0" t="4562" r="6123" b="0"/>
          <a:stretch/>
        </p:blipFill>
        <p:spPr>
          <a:xfrm>
            <a:off x="228600" y="1143000"/>
            <a:ext cx="8637480" cy="475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8F7-EE93-4970-9BF6-9194D823E0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153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éseaux Mobiles avec Mobile-IPv6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olutions Possibles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i envoie les BU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NG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mment MNG connaît les CN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oblème d’authentification: comment CN comprend que BU correspond au MNN et l’authentifi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NN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mment MNN détecte-t’il la mobilité du rés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mment MNN obtient-t’il l’adresse temporair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de transparence de la mobilité du réseau chez les MN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monet-v6-optimal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056120" cy="395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D9F-5DCE-444E-9DFD-4908F74669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éseaux Mobiles avec Mobile-IPv6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Problèmes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tous les c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hangements nécessaires dans la spé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oblèmes d’authen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n BU pour chaque couple {MNN,CN}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=&gt; BU en double chez les CNs communiquant avec plusieurs MN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fr-FR" sz="1800" spc="-1" strike="noStrike">
                <a:solidFill>
                  <a:srgbClr val="3333cc"/>
                </a:solidFill>
                <a:latin typeface="Times New Roman"/>
              </a:rPr>
              <a:t>explosio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e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monet-v6-BUexplo" descr=""/>
          <p:cNvPicPr/>
          <p:nvPr/>
        </p:nvPicPr>
        <p:blipFill>
          <a:blip r:embed="rId1"/>
          <a:srcRect l="0" t="0" r="6067" b="0"/>
          <a:stretch/>
        </p:blipFill>
        <p:spPr>
          <a:xfrm>
            <a:off x="4876920" y="1600200"/>
            <a:ext cx="3809880" cy="39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368-9E86-4EF2-A92D-DE2ADEDFA3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éseaux mobiles avec Mobile-IPv6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Nœuds mobiles visitant un réseau mobile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37" name="monet-v6-MN-BU-HA" descr=""/>
          <p:cNvPicPr/>
          <p:nvPr/>
        </p:nvPicPr>
        <p:blipFill>
          <a:blip r:embed="rId1"/>
          <a:srcRect l="0" t="5911" r="7129" b="31046"/>
          <a:stretch/>
        </p:blipFill>
        <p:spPr>
          <a:xfrm>
            <a:off x="533520" y="1143000"/>
            <a:ext cx="7893000" cy="485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E44-F512-4568-9B54-67727A8CE1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lan de la Présentation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: exemples et mot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énéralités sur les réseaux mob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-IP (v4 et v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seaux Mobiles avec Mobile-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BD5-D08E-4643-B679-DFE89B3D3B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éseaux Mobiles avec Mobile-IPv6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Nœuds mobiles visitant un réseau mobile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onet-v6-MN-1stdata" descr=""/>
          <p:cNvPicPr/>
          <p:nvPr/>
        </p:nvPicPr>
        <p:blipFill>
          <a:blip r:embed="rId1"/>
          <a:srcRect l="0" t="5557" r="6151" b="29261"/>
          <a:stretch/>
        </p:blipFill>
        <p:spPr>
          <a:xfrm>
            <a:off x="609480" y="1143000"/>
            <a:ext cx="7991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06A-3FD4-4ECE-9773-29F16FB472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244440"/>
            <a:ext cx="861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éseaux Mobiles avec Mobile-IPv6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Nœuds mobiles visitant un réseau mobile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monet-v6-MN-BU-CN" descr=""/>
          <p:cNvPicPr/>
          <p:nvPr/>
        </p:nvPicPr>
        <p:blipFill>
          <a:blip r:embed="rId1"/>
          <a:srcRect l="0" t="4699" r="6251" b="30724"/>
          <a:stretch/>
        </p:blipFill>
        <p:spPr>
          <a:xfrm>
            <a:off x="609480" y="914400"/>
            <a:ext cx="800100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F25-D339-4011-905C-67427E50E5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our conclure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besoins des utilisateurs nécessitent de considérer la gestion de réseaux mobiles dans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-IPv6 n’est pas adapté aux grands réseaux mobiles car les messages de contrôle nécessaires à un routage optimal sont trop nombr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-IPv6 nécessite d’importantes modifications pour supporter les réseaux mobiles en préservant la mobilité des nœu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faut so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étendre Mobile-IPv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vailler sur de nouvelles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435-8050-4427-9153-6DE5741030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Les Réseaux Mobiles dans IPv6</a:t>
            </a:r>
            <a:endParaRPr b="0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hierry Ernst - MOTOROLA LABS / IN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Claude Castelluccia - IN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Hong-Yon Lach - MOTOROLA L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hierry Er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à  l ’INRIA Rhône-Alpes - projet PLAN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hierry.ernst@inrialpes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http://www.inrialpes.fr/planete/people/ernst/Welcom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175-E44F-4277-9C10-F416D9AFEB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troduction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xemples de Réseaux Mobiles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Réseaux de capteu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éployés dans les avions, trains, voi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Réseaux personnel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Personal Area Networks) constitués par un ensemble d'interfaces de petite taille (téléphone cellulaire, agenda électronique, ...) et reliés entre eux par onde ra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Réseau constitué d'un trai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échangeant les données relatives à la signalisation ferroviaire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et de l'ensemble des passage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pouvant surfer sur la toile, se connecter sur leur lieu de travail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353-A1B0-43C6-BDAB-A00A163B96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troduction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otivations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Pourquoi IP ?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Omni-présence et engouement de l ’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Pourquoi IPv6 et pas IPv4  ?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Nouvelles fonctionnalités offertes par IPv6 permettent un meilleur support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mobi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communication de grou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sécur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qualité de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Problème ?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Mobile-IP n’est pas adapté au support des réseaux mo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CEE-9E33-4542-9BC4-6190FD71E6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énéralités sur les réseaux mobiles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éfinitions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@ IP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identifie la position d ’un nœud dans la top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Réseau IP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un ensemble de noeuds qui partagent le même préfixe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Réseau </a:t>
            </a:r>
            <a:r>
              <a:rPr b="1" lang="fr-FR" sz="2000" spc="-1" strike="noStrike" u="sng">
                <a:solidFill>
                  <a:srgbClr val="3333cc"/>
                </a:solidFill>
                <a:uFillTx/>
                <a:latin typeface="Times New Roman"/>
              </a:rPr>
              <a:t>DE</a:t>
            </a: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 mobiles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un réseau contenant des nœuds mo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3333cc"/>
                </a:solidFill>
                <a:uFillTx/>
                <a:latin typeface="Times New Roman"/>
              </a:rPr>
              <a:t>Réseau mobile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un réseau IP qui change dynamiquement son point d'attachement à l'Inter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Réseau Ad-hoc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réseau dont tous les nœuds sont des routeurs mob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745-D8CC-4B2E-A09A-E4290EC8CC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énéralités sur les réseaux mobiles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erminologie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MN: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oeud Mob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CN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oeud Corresponda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MNN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oeud à l ’intérieur d'un réseau mob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MNG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outeur interne au réseau mobile par lequel le réseau mobile s'attache à l'Int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HG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outeur externe au réseau mobile par lequel le réseau mobile s'attache initialement à l'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FG(s)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outeur(s) externe(s) au réseau mobile par lequel le réseau mobile s'attache par la suite à l'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mobinet-fr" descr=""/>
          <p:cNvPicPr/>
          <p:nvPr/>
        </p:nvPicPr>
        <p:blipFill>
          <a:blip r:embed="rId1"/>
          <a:srcRect l="0" t="3650" r="44175" b="0"/>
          <a:stretch/>
        </p:blipFill>
        <p:spPr>
          <a:xfrm>
            <a:off x="4648320" y="1887480"/>
            <a:ext cx="380988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826-6741-49E1-B209-940BDB208E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énéralités sur les réseaux mobiles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ypothèses de travail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 réseau mobile n'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qu'un seul M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réseau mobile n'es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s un réseau de trans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MNG ne s'attache qu'un à seul HG ou FG à la fo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HG et le FG ne sont pas eux-mêmes mo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mobinet-fr" descr=""/>
          <p:cNvPicPr/>
          <p:nvPr/>
        </p:nvPicPr>
        <p:blipFill>
          <a:blip r:embed="rId1"/>
          <a:srcRect l="0" t="3650" r="44175" b="0"/>
          <a:stretch/>
        </p:blipFill>
        <p:spPr>
          <a:xfrm>
            <a:off x="4648320" y="1887480"/>
            <a:ext cx="380988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F3D-76D7-41FC-9090-F395ACC65F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énéralités sur les réseaux mobiles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Caractéristiques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Préservation de la structure interne lors des déplac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=&gt; une gestion de la mobilité transparente aux MNNs est souhai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Le MNG est un point de passage oblig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=&gt; un réseau mobile peut être virtuellement vu de l'extérieur comme un seul nœud , le MNG, avec une adresse IP et n interfa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=&gt; la distinction entre les nœuds du réseau n'est nécessaire que pour le routage à l'intérieur du rés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Importance du nombre de CNs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lusieurs centaines de MNNs communiquant avec plusieurs C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=&gt; minimiser les messages de contrôle et assurer leur authen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# communications correspond au  # C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=&gt; l'optimisation du routage est cruci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Des nœuds mobiles peuvent visiter le réseau mo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=&gt; permettre l’usage de Mobile-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019-424A-42F4-A302-D96327CCFC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-IP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roupe de travail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Mobile-I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à l ’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IETF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Internet Engineering Task Fo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la mobilité des nœuds dans Internet sans interruption de la connectivit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 leur allouant une </a:t>
            </a:r>
            <a:r>
              <a:rPr b="0" lang="fr-FR" sz="1800" spc="-1" strike="noStrike">
                <a:solidFill>
                  <a:srgbClr val="3333cc"/>
                </a:solidFill>
                <a:latin typeface="Times New Roman"/>
              </a:rPr>
              <a:t>adresse IP temporair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à chaque nouveau point d’attachement dans la topologie en plus de leur </a:t>
            </a:r>
            <a:r>
              <a:rPr b="0" lang="fr-FR" sz="1800" spc="-1" strike="noStrike">
                <a:solidFill>
                  <a:srgbClr val="3333cc"/>
                </a:solidFill>
                <a:latin typeface="Times New Roman"/>
              </a:rPr>
              <a:t>adresse IP perman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œud mobile enregistre son adresse temporaire auprès de son HA (Home Ag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mip-principle" descr=""/>
          <p:cNvPicPr/>
          <p:nvPr/>
        </p:nvPicPr>
        <p:blipFill>
          <a:blip r:embed="rId1"/>
          <a:srcRect l="0" t="0" r="17978" b="0"/>
          <a:stretch/>
        </p:blipFill>
        <p:spPr>
          <a:xfrm>
            <a:off x="2514600" y="3276720"/>
            <a:ext cx="3908520" cy="250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AC'99 - Thierry Ernst 2/12/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0F9-3B3B-4447-9A14-912AD36C79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6:39:21Z</dcterms:created>
  <dc:creator>Thierry Ernst</dc:creator>
  <dc:description/>
  <dc:language>en-US</dc:language>
  <cp:lastModifiedBy>ERNST</cp:lastModifiedBy>
  <cp:lastPrinted>1999-11-26T13:25:53Z</cp:lastPrinted>
  <dcterms:modified xsi:type="dcterms:W3CDTF">1999-12-15T14:12:05Z</dcterms:modified>
  <cp:revision>31</cp:revision>
  <dc:subject/>
  <dc:title>Les Réseaux Mobiles dans IPv6</dc:title>
</cp:coreProperties>
</file>