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09480" y="4190760"/>
            <a:ext cx="5486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035000" y="53316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1"/>
          </p:nvPr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94F4-AC54-4B7D-8147-03A66C9D9F18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32F-E042-42FA-8C92-54E8A4805E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96C3-BBD9-4DB8-8AD6-9121FB2EA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1A5-BD44-40D4-9514-4F5F12FEBE3C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385B-58AE-465F-9593-1DB27FFA40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87F7-84F7-4D5C-BC06-2D8FC932F171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F94C-5D24-474E-88B6-F1E85291D6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0087-DEF2-4692-8871-38AAEEB7D5F1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F5D-F33F-4163-8EE8-70CD09BEF7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1609-F7B8-4032-B55C-D486A096D83E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75CB-E8F3-4639-BBEF-5752BD0D2A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0533-EEDD-40E3-A9BD-BF5D552AD8EF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B9C-7603-41B0-A594-711C4A0ABE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3E8-F544-4172-8972-884CF65CAC88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937-F1AF-4983-B1A2-D63C8C5B18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006-9D52-4BB8-8C65-70B999D9CA76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72CA-F808-43FA-B388-EDC19ECF40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C87-6045-455F-B140-50AD3AD3B018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1C71-5C77-42B8-BBE5-35197A73EC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C26C-6464-4526-9BEF-4D2654098917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4C8-80CE-47D3-AAB1-723C355AE7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1CD4-D01E-4994-BE5A-4212BC88D296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BFA3-634C-4E86-8484-D024E7A6A0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8B7-4DC3-4C31-AA7F-23B2E28C2889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76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E805-EBC4-432D-874E-5429E6988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81A-B129-47E7-8345-DA499C9B50C3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762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AA70-028A-4362-946F-1EE5C9B32D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AB4-6E69-43E1-82C6-A092FB37007C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D28-65F3-46F9-B925-00F571F113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BB9-3E42-46A8-B7B9-472583F3C4EE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0B29-5FCE-49F5-AAD9-0F54931472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623-2D5A-46EC-8F05-03B6E9004388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374-6358-482A-9D0E-DB5B689F7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2D8A-E054-42A0-AA43-5FA0AEF921C3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C33-8298-4A25-83AC-6616FF6B91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9D2-B5EC-401C-B893-532E1C3479F3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7335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42C-DD56-4D18-A2B5-43BB02D026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9524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33560" y="-3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7F3-D786-4D18-A7C9-85DA7872551C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ria-invert" descr=""/>
          <p:cNvPicPr/>
          <p:nvPr/>
        </p:nvPicPr>
        <p:blipFill>
          <a:blip r:embed="rId2"/>
          <a:stretch/>
        </p:blipFill>
        <p:spPr>
          <a:xfrm>
            <a:off x="7620120" y="6540480"/>
            <a:ext cx="1066680" cy="317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1001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10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63720" indent="-111240">
              <a:spcBef>
                <a:spcPts val="1001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97000" indent="-119160">
              <a:spcBef>
                <a:spcPts val="1001"/>
              </a:spcBef>
              <a:buClr>
                <a:srgbClr val="ffff00"/>
              </a:buClr>
              <a:buSzPct val="90000"/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97000" indent="-119160">
              <a:spcBef>
                <a:spcPts val="1001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97000" indent="-119160">
              <a:spcBef>
                <a:spcPts val="1001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09480"/>
            <a:ext cx="8229600" cy="0"/>
          </a:xfrm>
          <a:prstGeom prst="line">
            <a:avLst/>
          </a:prstGeom>
          <a:ln w="38160">
            <a:solidFill>
              <a:srgbClr val="ffc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546960"/>
            <a:ext cx="8229600" cy="0"/>
          </a:xfrm>
          <a:prstGeom prst="line">
            <a:avLst/>
          </a:prstGeom>
          <a:ln w="28440">
            <a:solidFill>
              <a:srgbClr val="ffc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505560"/>
            <a:ext cx="8534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ctr" pos="4167360"/>
                <a:tab algn="r" pos="7658280"/>
                <a:tab algn="r" pos="8178840"/>
                <a:tab algn="r" pos="87980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92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c92f"/>
                </a:solidFill>
                <a:latin typeface="Verdana"/>
              </a:rPr>
              <a:t>Ernst Thierry - ECUMN’00 - Colmar</a:t>
            </a:r>
            <a:r>
              <a:rPr b="1" lang="en-GB" sz="800" spc="-1" strike="noStrike">
                <a:solidFill>
                  <a:srgbClr val="ffc92f"/>
                </a:solidFill>
                <a:latin typeface="Arial"/>
              </a:rPr>
              <a:t>  -</a:t>
            </a:r>
            <a:r>
              <a:rPr b="1" lang="en-GB" sz="800" spc="-1" strike="noStrike">
                <a:solidFill>
                  <a:srgbClr val="ffc92f"/>
                </a:solidFill>
                <a:latin typeface="Verdana"/>
              </a:rPr>
              <a:t> </a:t>
            </a:r>
            <a:fld id="{51D2B7C6-C391-4BDE-A87E-755F490926CE}" type="slidenum">
              <a:rPr b="1" lang="en-US" sz="1400" spc="-1" strike="noStrike">
                <a:solidFill>
                  <a:srgbClr val="ffc92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Mot._Labs.Hrzntl_frmt.jpeg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57200" y="6578640"/>
            <a:ext cx="1644480" cy="27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nria-invert" descr=""/>
          <p:cNvPicPr/>
          <p:nvPr/>
        </p:nvPicPr>
        <p:blipFill>
          <a:blip r:embed="rId2"/>
          <a:stretch/>
        </p:blipFill>
        <p:spPr>
          <a:xfrm>
            <a:off x="7620120" y="6540480"/>
            <a:ext cx="1066680" cy="317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362320"/>
            <a:ext cx="8229600" cy="0"/>
          </a:xfrm>
          <a:prstGeom prst="line">
            <a:avLst/>
          </a:prstGeom>
          <a:ln w="38160">
            <a:solidFill>
              <a:srgbClr val="ffc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Mot._Labs.Hrzntl_frmt.jpeg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14400" y="0"/>
            <a:ext cx="7313760" cy="121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6553080"/>
            <a:ext cx="8229600" cy="0"/>
          </a:xfrm>
          <a:prstGeom prst="line">
            <a:avLst/>
          </a:prstGeom>
          <a:ln w="28440">
            <a:solidFill>
              <a:srgbClr val="ffc9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512040"/>
            <a:ext cx="8534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ctr" pos="4167360"/>
                <a:tab algn="r" pos="7658280"/>
                <a:tab algn="r" pos="8178840"/>
                <a:tab algn="r" pos="87980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92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c92f"/>
                </a:solidFill>
                <a:latin typeface="Verdana"/>
              </a:rPr>
              <a:t>ECUMN’00 - COLMAR  </a:t>
            </a:r>
            <a:fld id="{73BB8B41-9804-46C9-855B-AF599D817972}" type="slidenum">
              <a:rPr b="1" lang="en-US" sz="1400" spc="-1" strike="noStrike">
                <a:solidFill>
                  <a:srgbClr val="ffc92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Mot._Labs.Hrzntl_frmt.jpeg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457200" y="6585120"/>
            <a:ext cx="1644480" cy="272880"/>
          </a:xfrm>
          <a:prstGeom prst="rect">
            <a:avLst/>
          </a:prstGeom>
          <a:ln w="0">
            <a:noFill/>
          </a:ln>
        </p:spPr>
      </p:pic>
      <p:pic>
        <p:nvPicPr>
          <p:cNvPr id="50" name="inria-invert" descr=""/>
          <p:cNvPicPr/>
          <p:nvPr/>
        </p:nvPicPr>
        <p:blipFill>
          <a:blip r:embed="rId5"/>
          <a:stretch/>
        </p:blipFill>
        <p:spPr>
          <a:xfrm>
            <a:off x="2286000" y="1098720"/>
            <a:ext cx="4191120" cy="124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99960" indent="173160" algn="ctr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679320" indent="173160" algn="ctr"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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905040" indent="172800" algn="ctr"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"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905040" indent="172800">
              <a:spcBef>
                <a:spcPts val="300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905040" indent="172800">
              <a:spcBef>
                <a:spcPts val="300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ing Mobile IPv6 with Multicast to Support Mobile Networks in IPv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41907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erry Ernst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MOTOROLA Labs/ INRI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aude Castellucci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INRIA Rhône-Alpes (project PLANETE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ong-Yon Lach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MOTOROLA Lab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inrialpes.fr/planete/people/ernst/Welcome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happens if CN sends a packet to MNG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t is sent towards the initial point of attachment of MNG (i.e. H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G intercepts packet (proxy AR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G has an entry corresponding to the home address of M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t is encapsulated to the MNG’s care-of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=&gt; No problem to send packets if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he mobile router MNG is the final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estination.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monet-v6-1st-CN-to-MNG" descr=""/>
          <p:cNvPicPr/>
          <p:nvPr/>
        </p:nvPicPr>
        <p:blipFill>
          <a:blip r:embed="rId1"/>
          <a:stretch/>
        </p:blipFill>
        <p:spPr>
          <a:xfrm>
            <a:off x="4943520" y="2666880"/>
            <a:ext cx="4200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happens if CN sends a packet to MNN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t is sent towards initial point of attachment of MNG (i.e. H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G intercepts packet (proxy AR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G does not have an entry corresponding to the destination address of M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t is sent by HG to the default router (D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 resends the packet which is intercepted by HG and so on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Home Agent HG is unable to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edirect packet if final destination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s not the mobile router MNG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ommunication between CNs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nd MNNs is not possible via home network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monet-v6-CN-to-MNN-pb" descr=""/>
          <p:cNvPicPr/>
          <p:nvPr/>
        </p:nvPicPr>
        <p:blipFill>
          <a:blip r:embed="rId1"/>
          <a:stretch/>
        </p:blipFill>
        <p:spPr>
          <a:xfrm>
            <a:off x="4943520" y="2819520"/>
            <a:ext cx="4200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happens if we want direct routing between CNs and MNNs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CNs know how to route packets towards the FG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s corresponding with MNNs do not receive Binding Updates sent by M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irect communication between CNs and MNNs is not possible either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outing perspective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inction between nodes in the mobile network is only necessary for routing INSIDE the mobile networ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outside, the mobile network may virtually be perceived as a single mobile node with one address and `n`  interfaces attached to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uld we enhance Mobile IPv6 so that CNs communicating with MNNs be also sent a Binding Update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sends the Binding Update and how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are-of address is contained in the Binding Update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uld the Binding Updates be sent by the MNG to CNs communicating with MNNs 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MNG keep track of CNs communicating with MNN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 sends the care-of address to CNs on behalf of the MN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ender of BU is authenticated ; not the MNN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e-of address of MNG won’t be used to reach MN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 can not be piggybacked on paylo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monet-v6-optimal" descr=""/>
          <p:cNvPicPr/>
          <p:nvPr/>
        </p:nvPicPr>
        <p:blipFill>
          <a:blip r:embed="rId1"/>
          <a:stretch/>
        </p:blipFill>
        <p:spPr>
          <a:xfrm>
            <a:off x="5087880" y="2514600"/>
            <a:ext cx="4056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uld the Binding Updates be sent by MNNs to their CNs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s are properly authent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re-of address 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e-of address of MNG: How care-of address of MNG is distributed to MNNs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-located care-of address: MNNs have to behave as Mobile N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ity of network is not transparent to MN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monet-v6-MNN-BU" descr=""/>
          <p:cNvPicPr/>
          <p:nvPr/>
        </p:nvPicPr>
        <p:blipFill>
          <a:blip r:embed="rId1"/>
          <a:stretch/>
        </p:blipFill>
        <p:spPr>
          <a:xfrm>
            <a:off x="5267160" y="2514600"/>
            <a:ext cx="387684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 both cases: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 BU per  {MNN,CN}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&gt; duplicate BUs at CNs communicating with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ral MN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xplosion of Binding Update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if large number of C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monet-v6-BUexplo" descr=""/>
          <p:cNvPicPr/>
          <p:nvPr/>
        </p:nvPicPr>
        <p:blipFill>
          <a:blip r:embed="rId1"/>
          <a:srcRect l="0" t="0" r="6067" b="0"/>
          <a:stretch/>
        </p:blipFill>
        <p:spPr>
          <a:xfrm>
            <a:off x="4419720" y="914400"/>
            <a:ext cx="38098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obility transparency</a:t>
            </a:r>
            <a:r>
              <a:rPr b="1" i="1" lang="en-US" sz="2000" spc="-1" strike="noStrike">
                <a:solidFill>
                  <a:srgbClr val="fb200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 nodes in the mobile networ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Ns should not take part in mobi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calability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uture needs require to consider (potentially large) mobile networks  in IPv6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bile network may  contain hundreds of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node of the mobile network may communicate with several C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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obile network may have thousands of C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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umber of CNs becomes a more important issue than the number of mobile network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timal rou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tween CNs and the mobile network can not be left aside given the amount of expected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inimum signaling</a:t>
            </a:r>
            <a:r>
              <a:rPr b="0" lang="en-US" sz="1800" spc="-1" strike="noStrike">
                <a:solidFill>
                  <a:srgbClr val="fb200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crucial given the number of potential BU recip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ecurity and authenticatio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f Binding Upd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 can not be sent on behalf of another node: BUs have to be sent by the node which obtains the care-of add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 fontScale="96000"/>
          </a:bodyPr>
          <a:p>
            <a:pPr marL="165960" indent="-1659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0280" indent="-1641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on between CNs and MNNs is not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08480" indent="-15840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HG could redirect packets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08480" indent="-15840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to send a BU to MNNs’ correspondents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59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5960" indent="-1659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bservation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0280" indent="-1641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nodes in the mobile network have the same network prefi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08480" indent="-15840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.e a set of initial bits in the IPv6 addres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59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5960" indent="-1659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ution: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0280" indent="-1641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nding Binding Updates with a network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0280" indent="-164160">
              <a:spcBef>
                <a:spcPts val="400"/>
              </a:spcBef>
              <a:buClr>
                <a:srgbClr val="ffff00"/>
              </a:buClr>
              <a:buSzPct val="70000"/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 HA and CNs to route all packets bearing a network prefix corresponding to the prefix of the the mobile network via the MNG’s care-of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0280" indent="-1641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08480" indent="-15840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new Sub-Option to carry network pre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08480" indent="-15840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ing a prefix in the binding cache: &lt;network prefix, MNG care-of addres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08480" indent="-15840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arching the binding cache for a pre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0280" indent="-1641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draft-ernst-mobileip-v6-network-00.txt on the IETF’s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ing Mobile IPv6 with Network Scope B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Update expl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to provide the care-of address of the MNG without overloading the network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bserva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l CNs receive the identical Binding Upd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ending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Us to the multicast group of C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ch mobile network (i.e. MNG) is associated with a multicast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Ns are members of the multicast group /  MNG is the only 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bile Node is enhanced to Transmit BU using underlying IPv6 multic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38360" indent="-165240">
              <a:spcBef>
                <a:spcPts val="4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new resource record in the DNS to record the multicast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ing Mobile IPv6 with Multic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eword: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Mobile Networks and where do we find them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view of the existing Mobile IPv6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bile Networks in Mobile IPv6: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support mobile networks using Mobile IPv6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problem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tending Mobile IPv6 with Multicas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ing Mobile IPv6 with Multicast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or to first move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 gets a multicast address and registers it with D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or to communication set up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 obtains IP address of MNN and multicast address from the D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 joins multicast gro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each subsequent move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 obtains a care-of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 sends BU containing its network prefix (home prefix) and its current care-of address to the multicast gro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monet-v6-allCN" descr=""/>
          <p:cNvPicPr/>
          <p:nvPr/>
        </p:nvPicPr>
        <p:blipFill>
          <a:blip r:embed="rId1"/>
          <a:stretch/>
        </p:blipFill>
        <p:spPr>
          <a:xfrm>
            <a:off x="4773600" y="1523880"/>
            <a:ext cx="43704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ing Mobile IPv6 with Multicast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N receiving Binding Update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s entry &lt; network prefix ; MNG care-of address &gt; in binding cach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nding packets to MNN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 searches its binding cache for an entry corresponding to destination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fix of destination address matches a prefix recorded in binding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ket is sent to the MNN via MNG’s care-of address using a Routing Extension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s switches addresses and forward to MN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monet-v6-optimal" descr=""/>
          <p:cNvPicPr/>
          <p:nvPr/>
        </p:nvPicPr>
        <p:blipFill>
          <a:blip r:embed="rId1"/>
          <a:stretch/>
        </p:blipFill>
        <p:spPr>
          <a:xfrm>
            <a:off x="5087880" y="1447920"/>
            <a:ext cx="4056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ing Mobile IPv6 with Multicast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record addresses of CNs at the MNG (no binding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BU to update the location of the entire mobile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entry per mobile network in binding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s are authenticated (CNs are not mis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ity transparency to MN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al routing between CNs and MN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extensions to Mobile IPv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 cannot be piggybac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discrimination between recip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 of multicast signa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bile IPv6 does not support mobile networks at al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need to extend Mobile IPv6 with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twork scope Binding Upd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ition made at 48th IETF 08/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uture needs require to consider (potentially large) mobile networks  in IPv6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 to the periodic emission of Binding Updates, Mobile IPv6 requires additional extensions to support large mobile networks effici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ulticast distribution of Binding Upd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ems prom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doing simulations to evaluate the use of multi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 more information: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erry Ernst - MOTOROLA LABS / INRIA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tworking and Applications Lab (NAL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entre de Recherche de Motorola - Paris (CRM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RIA Rhône-Alpes - projet PLANETE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erry.ernst@inrialpes.fr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inrialpes.fr/planete/people/ernst/Welcome.html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loud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4667400" cy="2822760"/>
          </a:xfrm>
          <a:prstGeom prst="rect">
            <a:avLst/>
          </a:prstGeom>
          <a:ln w="0">
            <a:noFill/>
          </a:ln>
        </p:spPr>
      </p:pic>
      <p:pic>
        <p:nvPicPr>
          <p:cNvPr id="100" name="network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network" descr=""/>
          <p:cNvPicPr/>
          <p:nvPr/>
        </p:nvPicPr>
        <p:blipFill>
          <a:blip r:embed="rId3"/>
          <a:stretch/>
        </p:blipFill>
        <p:spPr>
          <a:xfrm>
            <a:off x="5791320" y="1676520"/>
            <a:ext cx="2295360" cy="1800000"/>
          </a:xfrm>
          <a:prstGeom prst="rect">
            <a:avLst/>
          </a:prstGeom>
          <a:ln w="0">
            <a:noFill/>
          </a:ln>
        </p:spPr>
      </p:pic>
      <p:pic>
        <p:nvPicPr>
          <p:cNvPr id="102" name="network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343400" y="38862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network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791320" y="1676520"/>
            <a:ext cx="229536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network" descr=""/>
          <p:cNvPicPr/>
          <p:nvPr/>
        </p:nvPicPr>
        <p:blipFill>
          <a:blip r:embed="rId6"/>
          <a:stretch/>
        </p:blipFill>
        <p:spPr>
          <a:xfrm>
            <a:off x="1828800" y="3581280"/>
            <a:ext cx="2295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10080" y="1905120"/>
            <a:ext cx="685800" cy="0"/>
          </a:xfrm>
          <a:prstGeom prst="line">
            <a:avLst/>
          </a:prstGeom>
          <a:ln w="1260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352680"/>
            <a:ext cx="0" cy="685800"/>
          </a:xfrm>
          <a:prstGeom prst="line">
            <a:avLst/>
          </a:prstGeom>
          <a:ln w="1260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0" cy="685800"/>
          </a:xfrm>
          <a:prstGeom prst="line">
            <a:avLst/>
          </a:prstGeom>
          <a:ln w="1260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wor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 mobile network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400" y="75420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obile Network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Mobile Router + its attached Nodes and Ro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7434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istinct from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d-hoc network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a network composed of mobile ro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etwork of sensor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loyed in aircrafts, boats, cars, trains, …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ffic signaling data is exchanged with the Internet while every passenger is given access to the Internet (web surfing, remote connection to offic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sonal Area Networks (PANs)</a:t>
            </a:r>
            <a:r>
              <a:rPr b="1" i="1" lang="en-US" sz="2000" spc="-1" strike="noStrike">
                <a:solidFill>
                  <a:srgbClr val="fb200f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work is made of all network elements carried by humans: cellular phone, noteboo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3160"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wor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pplications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041560" cy="3047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43800" y="1676520"/>
            <a:ext cx="606600" cy="900000"/>
          </a:xfrm>
          <a:prstGeom prst="rect">
            <a:avLst/>
          </a:prstGeom>
          <a:ln w="0">
            <a:noFill/>
          </a:ln>
        </p:spPr>
      </p:pic>
      <p:pic>
        <p:nvPicPr>
          <p:cNvPr id="116" name="sat" descr=""/>
          <p:cNvPicPr/>
          <p:nvPr/>
        </p:nvPicPr>
        <p:blipFill>
          <a:blip r:embed="rId4"/>
          <a:stretch/>
        </p:blipFill>
        <p:spPr>
          <a:xfrm>
            <a:off x="4876920" y="380880"/>
            <a:ext cx="189540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086600" y="3071880"/>
            <a:ext cx="1371600" cy="35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191120" y="7621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77120" y="53316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38080" y="2438280"/>
            <a:ext cx="1905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400800" y="2133360"/>
            <a:ext cx="11430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124080"/>
            <a:ext cx="15242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cloud" descr=""/>
          <p:cNvPicPr/>
          <p:nvPr/>
        </p:nvPicPr>
        <p:blipFill>
          <a:blip r:embed="rId6"/>
          <a:stretch/>
        </p:blipFill>
        <p:spPr>
          <a:xfrm>
            <a:off x="2133720" y="838080"/>
            <a:ext cx="46670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845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of Mobility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 provide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ontinuous Internet connectivit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to nodes located in the mobile networ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 offer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ptimal routing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between Correspondent Nodes (CNs) and nodes in the mobile network (MNNs)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monet-aim" descr=""/>
          <p:cNvPicPr/>
          <p:nvPr/>
        </p:nvPicPr>
        <p:blipFill>
          <a:blip r:embed="rId1"/>
          <a:stretch/>
        </p:blipFill>
        <p:spPr>
          <a:xfrm>
            <a:off x="4943520" y="2666880"/>
            <a:ext cx="4200480" cy="3543480"/>
          </a:xfrm>
          <a:prstGeom prst="rect">
            <a:avLst/>
          </a:prstGeom>
          <a:ln w="0">
            <a:noFill/>
          </a:ln>
        </p:spPr>
      </p:pic>
      <p:pic>
        <p:nvPicPr>
          <p:cNvPr id="127" name="mobinet-move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4038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rking Group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obile IP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t 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ETF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low mobility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d-syste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thou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munication disruption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e node MN is identified by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me addr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P1 (address on the home lin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 temporary address IP2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e-of addr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is allocated to MN on each visited foreign link and is used for rou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 is associated with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me Ag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 (a router on the home link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of Mobile IPv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mip-v6-def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4619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of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s n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mip-v6-1stdata" descr=""/>
          <p:cNvPicPr/>
          <p:nvPr/>
        </p:nvPicPr>
        <p:blipFill>
          <a:blip r:embed="rId1"/>
          <a:srcRect l="0" t="0" r="18817" b="0"/>
          <a:stretch/>
        </p:blipFill>
        <p:spPr>
          <a:xfrm>
            <a:off x="5029200" y="1066680"/>
            <a:ext cx="3657600" cy="2352960"/>
          </a:xfrm>
          <a:prstGeom prst="rect">
            <a:avLst/>
          </a:prstGeom>
          <a:ln w="0">
            <a:noFill/>
          </a:ln>
        </p:spPr>
      </p:pic>
      <p:pic>
        <p:nvPicPr>
          <p:cNvPr id="133" name="mip-v6-optimal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733920" cy="2610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rst packet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 obtains care-of address IP2  from a router on the foreign 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 registers its current care-of address IP2 with its home agent 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 sends packets to the care-of address I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 intercepts, encapsulates, and redirects packets to care-of address I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 decapsulates p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llowing packet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 sends its care-of address to C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 sends packets directly to the care-of address IP2 using a  IPv6 Routing Extension Hea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at does the Mobile IPv6 specification say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e IPv6 nodes may either be mobile hosts or mobile rou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 explicit mention of mobile net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uld we support mobile networks as a Mobile Node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of Mobile IPv6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s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7575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bile Networks with Mobile IPv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ble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mipv6-mobinet" descr=""/>
          <p:cNvPicPr/>
          <p:nvPr/>
        </p:nvPicPr>
        <p:blipFill>
          <a:blip r:embed="rId1"/>
          <a:stretch/>
        </p:blipFill>
        <p:spPr>
          <a:xfrm>
            <a:off x="4772160" y="3048120"/>
            <a:ext cx="4371840" cy="3543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happens if we support mobile networks as any mobile node ?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 MNG is a mobile 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bile router MNG has a home agent (H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 obtains a care-of address on foreign link (DHCPv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G sends  Binding Updates to register its care-of address with its home agent HG and its C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-171360">
              <a:spcBef>
                <a:spcPts val="400"/>
              </a:spcBef>
              <a:buClr>
                <a:srgbClr val="ffff00"/>
              </a:buClr>
              <a:buSzPct val="70000"/>
              <a:buFont typeface="Monotype Sorts" charset="2"/>
              <a:buChar char="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 agent HG and CNs add an ent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ir binding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spcBef>
                <a:spcPts val="4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=&gt; No problem for the MNG to register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ts careof address with  HG and its CNs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9:12:55Z</dcterms:created>
  <dc:creator>Hong-Yon Lach</dc:creator>
  <dc:description/>
  <dc:language>en-US</dc:language>
  <cp:lastModifiedBy>Moyens Informatiques</cp:lastModifiedBy>
  <cp:lastPrinted>1997-07-15T16:07:36Z</cp:lastPrinted>
  <dcterms:modified xsi:type="dcterms:W3CDTF">2000-10-06T09:35:16Z</dcterms:modified>
  <cp:revision>114</cp:revision>
  <dc:subject/>
  <dc:title>Example Title</dc:title>
</cp:coreProperties>
</file>