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22E-B50E-41EA-A482-8155F238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C74-E3ED-485C-8324-4D889B07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FC5-4C17-4634-80AC-B5C79EFA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651-062D-43B7-90FE-AC8BB076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A5A-D589-48C9-B103-2F632E22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0D45-C0D9-4049-AED3-44E4C91E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88A-9C61-4E7D-BE67-E56F807C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FF4-7CCE-4882-B4A5-C34C133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CBF2-3B02-4507-8EC2-F206088F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9E83-E593-4EAC-A6AE-33BB8B75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C45-2788-4766-9B45-AEA09EF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9F5-3E0B-47A4-987D-964FD83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F54-9AF1-420C-A08D-2BA244F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61C0-E21F-4DB7-9787-7D26582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1795-8384-4E67-A2EB-296C962D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217E-AA5D-4D5E-A981-DD616BEB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E47B-632A-4B8E-9FC0-68F56919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3C8-DC14-46E4-BF79-4015DC77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076-C77E-4D1E-8DA5-8BE1C59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63D-A102-4448-A6F5-B545657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153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2FB-F39A-4D06-98E1-97FD3A0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8D9-D68B-488C-8A91-D02CD09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851-C280-49FA-95B3-3B76716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0A0-7EC9-4A7B-8558-0308A68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3280" y="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8AA-30D7-4BB4-8882-33A1D9E34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nria-ra" descr=""/>
          <p:cNvPicPr/>
          <p:nvPr/>
        </p:nvPicPr>
        <p:blipFill>
          <a:blip r:embed="rId2"/>
          <a:stretch/>
        </p:blipFill>
        <p:spPr>
          <a:xfrm>
            <a:off x="7470720" y="6402240"/>
            <a:ext cx="1673280" cy="455760"/>
          </a:xfrm>
          <a:prstGeom prst="rect">
            <a:avLst/>
          </a:prstGeom>
          <a:ln w="0">
            <a:noFill/>
          </a:ln>
        </p:spPr>
      </p:pic>
      <p:pic>
        <p:nvPicPr>
          <p:cNvPr id="6" name="Mot._Labs.Hrzntl_frmt.BoW" descr=""/>
          <p:cNvPicPr/>
          <p:nvPr/>
        </p:nvPicPr>
        <p:blipFill>
          <a:blip r:embed="rId3"/>
          <a:stretch/>
        </p:blipFill>
        <p:spPr>
          <a:xfrm>
            <a:off x="0" y="6440400"/>
            <a:ext cx="251460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77C1-F8C8-4C9E-B24E-D121EB5A0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pcn1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181480" cy="2838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040" y="21337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ierry Erns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MOTOROLA Labs/ IN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ude Castellucci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INRIA Rhône-Alpes (project PLANE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ng-Yon La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MOTOROLA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ttp://www.inrialpes.fr/planete/people/ernst/Welco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xtending Mobile-IPv6 to Support Mobile Networks in IPv6</a:t>
            </a:r>
            <a:endParaRPr b="0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7" name="inria-ra" descr=""/>
          <p:cNvPicPr/>
          <p:nvPr/>
        </p:nvPicPr>
        <p:blipFill>
          <a:blip r:embed="rId2"/>
          <a:stretch/>
        </p:blipFill>
        <p:spPr>
          <a:xfrm>
            <a:off x="7047000" y="0"/>
            <a:ext cx="2095560" cy="571680"/>
          </a:xfrm>
          <a:prstGeom prst="rect">
            <a:avLst/>
          </a:prstGeom>
          <a:ln w="0">
            <a:noFill/>
          </a:ln>
        </p:spPr>
      </p:pic>
      <p:pic>
        <p:nvPicPr>
          <p:cNvPr id="88" name="Mot._Labs.Hrzntl_frmt.BoW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General Comment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y shall we use  IP 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is everyw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y shall we use IPv6 and not IPv4  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Pv6 features offer better support f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blem 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-IP has not been designed to support specific characteristics of Mobile Net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E87-D882-4CCD-9AE4-8074C589DB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the existing Mobile-IP</a:t>
            </a:r>
            <a:br>
              <a:rPr sz="2000"/>
            </a:b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bile-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ET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ernet Engineering Task For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mobility of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nd-syst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out communication disru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node MN is identified by its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ome 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P1 (address on the home 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temporary address IP2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areof 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s allocated to MN on each visited foreign link and is used for rou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 is associated with a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ome Ag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 (a router on the home link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ip-def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46198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345-70B8-4780-B803-AC657D347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bile-IPv4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(RFC2002 and Internet Draft 2002-bis)</a:t>
            </a:r>
            <a:endParaRPr b="0" i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67" name="mip-1stdata" descr=""/>
          <p:cNvPicPr/>
          <p:nvPr/>
        </p:nvPicPr>
        <p:blipFill>
          <a:blip r:embed="rId1"/>
          <a:srcRect l="0" t="0" r="17123" b="0"/>
          <a:stretch/>
        </p:blipFill>
        <p:spPr>
          <a:xfrm>
            <a:off x="838080" y="933480"/>
            <a:ext cx="3733920" cy="24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obtains careof address IP2  from FA on the foreign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 registers MN’s current careof address IP2 with MN’s H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spondent Nodes (CNs) send packets to the home address I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 encapsulates packets to the current careof address IP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 decapsulates packets and forwards them to M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mip-principle" descr=""/>
          <p:cNvPicPr/>
          <p:nvPr/>
        </p:nvPicPr>
        <p:blipFill>
          <a:blip r:embed="rId2"/>
          <a:srcRect l="0" t="0" r="17978" b="0"/>
          <a:stretch/>
        </p:blipFill>
        <p:spPr>
          <a:xfrm>
            <a:off x="4572000" y="919080"/>
            <a:ext cx="3908520" cy="2509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ckets from CN to MN transit through the HA while packets from MN to CN take the most direct path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iangle 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963-59B6-41FB-9D2C-5DF5C5FE3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bile-IPv4 with Routing Optimization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(internet-draft)</a:t>
            </a:r>
            <a:endParaRPr b="0" i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while, HA sends careof address to CNs of the M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 sends packets directly to the careof address IP2 using tunn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 decapsulates packets and forwards them to M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mip-1stdata" descr=""/>
          <p:cNvPicPr/>
          <p:nvPr/>
        </p:nvPicPr>
        <p:blipFill>
          <a:blip r:embed="rId1"/>
          <a:srcRect l="0" t="0" r="17123" b="0"/>
          <a:stretch/>
        </p:blipFill>
        <p:spPr>
          <a:xfrm>
            <a:off x="838080" y="933480"/>
            <a:ext cx="3733920" cy="2495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obtains careof address IP2  from FA on the foreign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 registers MN’s current careof address IP2 with MN’s H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 sends packets to the home address I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 intercepts, encapsulates, and redirects packets to careof address IP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 decapsulates packets and forwards them to M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05520" y="45720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ing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6840" y="4572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mip-v4-optimal" descr=""/>
          <p:cNvPicPr/>
          <p:nvPr/>
        </p:nvPicPr>
        <p:blipFill>
          <a:blip r:embed="rId2"/>
          <a:stretch/>
        </p:blipFill>
        <p:spPr>
          <a:xfrm>
            <a:off x="4572000" y="819000"/>
            <a:ext cx="3733920" cy="261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5D5-B101-4947-871A-25D8D185B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biles nodes with Mobile-IPv6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5331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24280" y="5331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ing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mip-v6-1stdata" descr=""/>
          <p:cNvPicPr/>
          <p:nvPr/>
        </p:nvPicPr>
        <p:blipFill>
          <a:blip r:embed="rId1"/>
          <a:srcRect l="0" t="0" r="18817" b="0"/>
          <a:stretch/>
        </p:blipFill>
        <p:spPr>
          <a:xfrm>
            <a:off x="914400" y="1076400"/>
            <a:ext cx="3657600" cy="2352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24280" y="4114800"/>
            <a:ext cx="38102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sends its careof address to C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 sends packets directly to the careof address IP2 using a  IPv6 Routing Extension Hea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obtains careof address IP2  from a router on the foreign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registers its current careof address IP2 with its home agent H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 sends packets to the careof address I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 intercepts, encapsulates, and redirects packets to careof address I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 decapsulate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mip-v6-optimal" descr=""/>
          <p:cNvPicPr/>
          <p:nvPr/>
        </p:nvPicPr>
        <p:blipFill>
          <a:blip r:embed="rId2"/>
          <a:stretch/>
        </p:blipFill>
        <p:spPr>
          <a:xfrm>
            <a:off x="4572000" y="819000"/>
            <a:ext cx="3733920" cy="261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E2F-5AEB-4174-8B7E-001C504EE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bile Networks in IPv4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-IPv4 (RFC2002) deals about Mobile Networks in section 4.5: “A mobile node can be a router responsible for the mobility of an entire network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routers are supported as any other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int of attachment FG is a Foreign Ag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router MNG is allocated a new careof address from each subsequent foreign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agent FG registers current careof address with mobile router’s  Home Agent H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router acts as a foreign agent for mobile nodes connected to the mobil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mip-mobinet" descr=""/>
          <p:cNvPicPr/>
          <p:nvPr/>
        </p:nvPicPr>
        <p:blipFill>
          <a:blip r:embed="rId1"/>
          <a:srcRect l="0" t="0" r="6142" b="0"/>
          <a:stretch/>
        </p:blipFill>
        <p:spPr>
          <a:xfrm>
            <a:off x="4724280" y="1600200"/>
            <a:ext cx="407700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D8C-6DD7-437D-9517-C635FF9AF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view of Mobile-IP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bile Networks in IPv4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 sends packets to the  M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 are routed to the home link of the mobile net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G intercepts packets and encapsulates them to the home address of the mobile router and then to the careof address of the mobile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G decapsulates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router decapsulates packets again and forwards them to M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Mobile Networks are supported but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outing is not optim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monet-v4-data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20048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E7A-77AC-49A2-90E3-AFDA3C10CE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in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What says the Mobile-IPv6 specification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Mobile-IPv6 specification, mobile nodes may either be a mobile host or a mobile ro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 mention of mobile networ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Mobile-IPv6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822-BC25-42D5-B7FB-FC8860BB16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in Mobile-IPv6: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Registration with home agent HG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4" name="mipv6-mobinet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371840" cy="3543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62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if we support mobile networks as in the Mobile-IPv4 specifica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router MNG has a home agent (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G would obtain a careof address from the 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G would then register the careof address with its home agent H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agent HG adds en entry in its binding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886-A0A8-412B-A56B-6830B1854E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with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irst datagrams from the CN - triangle routing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447920"/>
            <a:ext cx="3733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 sends packets to the initial point of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G intercepts and tunnels packets to the careof address of the M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G decapsulates and forwa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packets transit by the home agent of the mobile network: non-optimal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CNs know how to route towards the mobi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monet-v6-CN1stdata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20048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DDA-34C5-4274-B557-EA707C592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Table of content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Mobile Networks and where do we find the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an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the existing Mobile-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Nodes in Mobile-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Nodes in Mobile-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Networks in Mobile-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etworks in Mobile-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support mobile networks using Mobile-IPv6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ing Mobile-IPv6 with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B19-9F84-456B-AB85-902E1DF07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with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ow could we optimize routing ? 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MNG know CNs of MN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inding Update is sent on behalf of MNN, how is it authenticated by C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inding Update is not sent on behalf of MNNs, how does CNs understand that the careof address has to be used to communicate with MN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 of network is hidden to MN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 Updates can not be piggybacked on payloa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et-v6-optimal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056120" cy="395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99072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Binding Updates are sent by M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02D-F6A3-40EF-B6F9-F5BEC83DD4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with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ow could we optimize routing ? 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MNN acquire the careof addres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areof address should be used by MN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of address of MN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inct careof address for each MN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N do take part in mobilit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Mobility of network is not transparent to MN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monet-v6-MNN-BU" descr=""/>
          <p:cNvPicPr/>
          <p:nvPr/>
        </p:nvPicPr>
        <p:blipFill>
          <a:blip r:embed="rId1"/>
          <a:stretch/>
        </p:blipFill>
        <p:spPr>
          <a:xfrm>
            <a:off x="685800" y="2097000"/>
            <a:ext cx="3809880" cy="3576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1219320"/>
            <a:ext cx="2743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Binding Updates are sent by MNN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8A2-1DBD-49E4-B1B8-DD4FE71666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in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oblem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oth c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are required in the Mobile-IPv6 specification in order to support mobile net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ficatio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 BU per  {MNN,CN}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duplicate BUs at CNs communicating with several MN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inding Updates explo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large number of C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monet-v6-BUexplo" descr=""/>
          <p:cNvPicPr/>
          <p:nvPr/>
        </p:nvPicPr>
        <p:blipFill>
          <a:blip r:embed="rId1"/>
          <a:srcRect l="0" t="0" r="6067" b="0"/>
          <a:stretch/>
        </p:blipFill>
        <p:spPr>
          <a:xfrm>
            <a:off x="4876920" y="1600200"/>
            <a:ext cx="3809880" cy="39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854-BD35-43D4-B933-0E7EFBD9FE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in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onstraints for a workable solution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bility transparen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nodes in the mobi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Ns should not take part in mobi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cal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large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timal rou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tween CNs and the mobile network can not be left aside given the amount of expected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signaling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crucial given the number of potential BU recip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curity and authent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Binding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 can not be sent on behalf of another node: BUs have to be sent by the node which obtains the careof add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biles nodes visiting the mobile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sure that MNN can keep using Mobile-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1D0-A4DA-4E5D-AAFB-549E8D7BF7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xtending Mobile-IPv6 Using Multicast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bservation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raffic transit through the M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odes in the mobile network have the same network 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tell CNs to route all packets bearing the network prefix of the MNG via its current 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 CNs of the MNG’s careof address for all communications with a M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&gt; all CNs receive the sam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not using multicast the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199-35F9-4891-823E-19F2954F66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xtending Mobile-IPv6 Using Multicast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roposed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914400"/>
            <a:ext cx="7848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Enhanc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scope binding upd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Binding Update contains the network prefix of M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 cache entries at CNs contains &lt;network prefix, MNG careof addre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cast distribution of Binding Upd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mobile network (i.e. MNG) is associated with a multica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s are members of the multicast group /  MNG is the onl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 BU using underlying IPv6 multica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modif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-IPv6 modif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new IPv6 destination option to transmit the Network Binding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 of the MNG Operation (a enhanced Mobile Node Operation able to obtain a multicast address and to send BU to the multica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N operation is enhanced to join the multicast group and understand the new IPv6 Destination O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resource record in the DNS to record the multica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7C6-D7DD-4B1A-9EBB-1B7D7724EF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xtending Mobile-IPv6 Using Multicast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ow it work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 to first move, MNG gets a multicast address and registers it with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ach subsequent move, MNG obtains a careof add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NG sends BU containing its network prefix (home prefix) and its current careof address to the multicast gro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while, CNs register to multicast gro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s receive BU and understand careof address of MNG should be used for all destinations bearing same network prefix as the M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s send packets to the MNN via MNG careof address using a Routing Extension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monet-v6-allCN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809880" cy="35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314-4E20-4034-BDC1-51E814F3FE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 with Mobile-IPv6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irst datagrams from the CN - triangle routing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0" name="monet-v6-1stdata" descr=""/>
          <p:cNvPicPr/>
          <p:nvPr/>
        </p:nvPicPr>
        <p:blipFill>
          <a:blip r:embed="rId1"/>
          <a:srcRect l="0" t="6131" r="6254" b="0"/>
          <a:stretch/>
        </p:blipFill>
        <p:spPr>
          <a:xfrm>
            <a:off x="409680" y="838080"/>
            <a:ext cx="8734320" cy="47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902-D02A-4D78-BE73-6B02E60055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xtending Mobile-IPv6 Using Multicast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timal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monet-v6-afterBU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7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AB5-D0F1-43D9-A614-26F3525976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xtending Mobile-IPv6 Using Multicast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914400"/>
            <a:ext cx="7848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record addresses of CNs at the MNG (binding 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U to update the location of a mobil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entry per mobile network in binding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 are authent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 cannot be piggyb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discrimination between recip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of multicast (for a small number of C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232-B8E9-4F8F-AADE-691155F752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etwork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network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295360" cy="1800000"/>
          </a:xfrm>
          <a:prstGeom prst="rect">
            <a:avLst/>
          </a:prstGeom>
          <a:ln w="0">
            <a:noFill/>
          </a:ln>
        </p:spPr>
      </p:pic>
      <p:pic>
        <p:nvPicPr>
          <p:cNvPr id="93" name="network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572000" y="38862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network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943600" y="2209680"/>
            <a:ext cx="2295360" cy="1800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oreword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What is a Mobile Network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network" descr=""/>
          <p:cNvPicPr/>
          <p:nvPr/>
        </p:nvPicPr>
        <p:blipFill>
          <a:blip r:embed="rId5"/>
          <a:stretch/>
        </p:blipFill>
        <p:spPr>
          <a:xfrm>
            <a:off x="1752480" y="3886200"/>
            <a:ext cx="2295720" cy="18003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371600" y="1143000"/>
            <a:ext cx="4876560" cy="2895480"/>
            <a:chOff x="1371600" y="1143000"/>
            <a:chExt cx="4876560" cy="2895480"/>
          </a:xfrm>
        </p:grpSpPr>
        <p:grpSp>
          <p:nvGrpSpPr>
            <p:cNvPr id="98" name=""/>
            <p:cNvGrpSpPr/>
            <p:nvPr/>
          </p:nvGrpSpPr>
          <p:grpSpPr>
            <a:xfrm>
              <a:off x="1371600" y="1143000"/>
              <a:ext cx="4667400" cy="2822400"/>
              <a:chOff x="1371600" y="1143000"/>
              <a:chExt cx="4667400" cy="2822400"/>
            </a:xfrm>
          </p:grpSpPr>
          <p:pic>
            <p:nvPicPr>
              <p:cNvPr id="99" name="cloud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1600" y="1143000"/>
                <a:ext cx="4667400" cy="282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28800" y="1371600"/>
                <a:ext cx="4038840" cy="2286000"/>
                <a:chOff x="1828800" y="1371600"/>
                <a:chExt cx="4038840" cy="2286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669760" y="2286000"/>
                  <a:ext cx="166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57400" y="342900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00600" y="335268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905120" y="2057400"/>
                  <a:ext cx="3276720" cy="990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28800" y="251460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029200" y="228600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819520" y="198108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343400" y="198108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5320" y="289548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19520" y="137160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285640" y="3124080"/>
                  <a:ext cx="121932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33920" y="3124080"/>
                  <a:ext cx="106668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71800" y="16002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639040" y="2286000"/>
                  <a:ext cx="228600" cy="228600"/>
                </a:xfrm>
                <a:prstGeom prst="flowChartProcess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57800" y="243828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 flipH="1">
              <a:off x="5866920" y="2362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800-46FE-4574-86FF-E642EE5EB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needs require to consider (potentially large) mobile networks  in IPv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-IPv6 is not well adapted to support large mobile networks due to the periodic emission of Binding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-IPv6 requires important modifications / extensions to support large mobile networks effici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xtend Mobile-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to propose new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olution based on multicast seems promising to support large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41F-9CAF-4494-9791-C1A4A1F757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r more informat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erry Ernst - MOTOROLA LABS / IN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erry.ernst@inrialpes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NRI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hône-Alpes - projet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LAN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inrialpes.fr/planete/people/ernst/Welcom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48F-A661-4595-A601-3940565442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041560" cy="304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43800" y="1676520"/>
            <a:ext cx="606600" cy="900000"/>
          </a:xfrm>
          <a:prstGeom prst="rect">
            <a:avLst/>
          </a:prstGeom>
          <a:ln w="0">
            <a:noFill/>
          </a:ln>
        </p:spPr>
      </p:pic>
      <p:pic>
        <p:nvPicPr>
          <p:cNvPr id="122" name="sat" descr=""/>
          <p:cNvPicPr/>
          <p:nvPr/>
        </p:nvPicPr>
        <p:blipFill>
          <a:blip r:embed="rId4"/>
          <a:stretch/>
        </p:blipFill>
        <p:spPr>
          <a:xfrm>
            <a:off x="4876920" y="380880"/>
            <a:ext cx="1895400" cy="6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086600" y="3071880"/>
            <a:ext cx="1371600" cy="35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oreword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pplications of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62320" y="1066680"/>
            <a:ext cx="4267080" cy="2514600"/>
            <a:chOff x="2362320" y="1066680"/>
            <a:chExt cx="4267080" cy="2514600"/>
          </a:xfrm>
        </p:grpSpPr>
        <p:pic>
          <p:nvPicPr>
            <p:cNvPr id="126" name="cloud" descr=""/>
            <p:cNvPicPr/>
            <p:nvPr/>
          </p:nvPicPr>
          <p:blipFill>
            <a:blip r:embed="rId6"/>
            <a:stretch/>
          </p:blipFill>
          <p:spPr>
            <a:xfrm>
              <a:off x="2362320" y="1066680"/>
              <a:ext cx="42670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09200" y="2084760"/>
              <a:ext cx="166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93800" y="215280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9240" y="310320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27360" y="303516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80280" y="1881360"/>
              <a:ext cx="2995560" cy="88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0440" y="228852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6160" y="215280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64320" y="174564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09400" y="181332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42960" y="262800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4320" y="1202040"/>
              <a:ext cx="208800" cy="203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8400" y="2831400"/>
              <a:ext cx="111456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52120" y="2831400"/>
              <a:ext cx="97488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4000" y="140580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45320" y="2288520"/>
              <a:ext cx="34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62120" y="37339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etwork of sens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loyed in aircrafts, boats, cars, train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signaling data is exchanged with the Internet while every passenger is given access to the Internet (web surfing, remote connection to offic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ersonal Area Networks (PA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twork is made of all network elements carried by humans: cellular phone, notebook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91120" y="762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77120" y="53316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38080" y="24382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00800" y="21333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124080"/>
            <a:ext cx="1524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BD1-F7B5-430A-88A4-07628EDB9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efinition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@ I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entifies the location of the node in the Internet topolo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P networ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et of nodes (i.e. hosts and routers) that share the same IP prefix and attached to the Internet through a single border ro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of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mobil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network that contains mobile 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Mobile Networ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IP network whose border router is dynamically changing its point of attachment to the Internet and thus its reachability in the IP topology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-hoc network: a network composed of mobile rou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DA1-1EAB-4A31-A561-6E93971AC0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erminology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i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respond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N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i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wor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e Node inside the mobile networ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NG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i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wor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way - border router of the mobile network which connects to the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G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me Gateway - initial point of attachment of the M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G(s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eign Gateway - subsequent points of attachment of the M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mobinet" descr=""/>
          <p:cNvPicPr/>
          <p:nvPr/>
        </p:nvPicPr>
        <p:blipFill>
          <a:blip r:embed="rId1"/>
          <a:srcRect l="0" t="0" r="9678" b="1597"/>
          <a:stretch/>
        </p:blipFill>
        <p:spPr>
          <a:xfrm>
            <a:off x="4572000" y="1523880"/>
            <a:ext cx="4267080" cy="38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199-90AF-48B9-B19A-1614291C9C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ssumption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bile network h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one border r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bile network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 net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 a transit net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NG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multi-ho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t attaches to only one point of attachment HG or FG at a ti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G and FGs are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mselv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monet-foreign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0048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322-C217-408A-991A-9642682F2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haracteristics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internal architecture of the mobile network is preserved while roam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s inside the mobile network do not move with respect to the MNG or with respect to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MNG is a necessary transit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outing persp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ction between nodes in the mobile network is only necessary for routing INSIDE the mobile net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outside, the mobile network may virtually be perceived as a single mobile node with one address and `n`  interfaces attached to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ze of the mobile networ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obile network may  contain hundreds o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node of the mobile network may communicate with several C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obile network may have thousands of C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umber of CNs becomes a more important issue than the number of mobile net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A4F-38E8-4C33-B163-027466060E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obile Networks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im of Mobility Support</a:t>
            </a: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continuous Internet connectivity to nodes located in the mobi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offer optimal routing between Correspondent Nodes (CNs) and nodes in the mobile network (MN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net-aim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420048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CN - Thierry Ernst - May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4BA-655F-401D-B6C7-45C7D50247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6:39:21Z</dcterms:created>
  <dc:creator>Thierry Ernst</dc:creator>
  <dc:description/>
  <dc:language>en-US</dc:language>
  <cp:lastModifiedBy>Moyens Informatiques</cp:lastModifiedBy>
  <cp:lastPrinted>2000-06-16T10:08:50Z</cp:lastPrinted>
  <dcterms:modified xsi:type="dcterms:W3CDTF">2000-06-16T10:15:30Z</dcterms:modified>
  <cp:revision>84</cp:revision>
  <dc:subject/>
  <dc:title>Les Réseaux Mobiles dans IPv6</dc:title>
</cp:coreProperties>
</file>